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BA3-5DDA-4187-B706-D7B0DFE9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5BE-74B2-410E-904B-CE7A77C7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625-CB40-4376-9A7F-51E30BC7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F67-98A2-4C50-BC07-071C41FD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B9C-B461-4FC2-AF5A-AF2663BC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8F4-2F7A-45E3-8AD5-9443B31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4F4-410C-404F-A431-C46756F7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7E2-0567-443A-94CC-53A5CF1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DCC-03C3-4FF3-ABBF-BC8783C8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E38-2ED1-41A7-9C26-2364CCE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B03-406D-4701-9BA6-96A705A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E41-D459-46FC-94CB-AA609BD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396A-B4E1-498E-8C6B-AC9AE3A5E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 Silently: 4 Paragraph Ess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Briefly introduce yourself. Tell me what kind of student you are. What is your favorite subject? Who was your teacher for this class the first time you took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Explain why you failed English 3C. What caused you to fail this class the first time you tried it?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xplain your response in deta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Describe you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ersonal and academic hab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led to failing th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How do you plan on changing your personal and academic habits to make sure that you pass this class? What are you going to do differently? Give concrete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graph 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What will happen if you do change your personal and academic habits that caused you to fail this class in the past? What will happen if you d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hange your personal and academic habits that caused you to fail? Do you think you will succeed and pass this cla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34280" y="0"/>
            <a:ext cx="180972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5181480"/>
            <a:ext cx="53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ke your time with this essay.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 want to see your best wor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You have until 8:40 to complete it. If you finish early, you must begin reading silently. Those talking/disrupting class in any way will have to leave with a referral (2 referrals = gone from cla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hley LaMan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20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sol Nun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301920" cy="4622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3400" y="1676520"/>
            <a:ext cx="4572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sol gave up her education to support her family’s education in Mexico. After she dropped out of school herself, she values education so greatly that as a gesture of love she is sacrificing her success so that her family will get an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uch more could she support her family of she had an education and a better jo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cia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32748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2209680"/>
            <a:ext cx="4419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od thing about your education is that no matter how old you are you can continue your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y would you want to wait? Why wait when you know that more education leads to mor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more education lead to more mone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a lifetime,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alue of an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say you spend 40 years of your life wor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lso say you work about 40 hours per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52 weeks in a year--so you work 2,080 hours per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since you work for 40 years, you’re working 83,200 hours in your life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93680" y="1208160"/>
            <a:ext cx="69598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try harder at school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you go to school every day if you were pai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Paid for Going To 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the chart I showed you earlier, every day you spend in school you increase your lifetime earnings by $600 to $1,2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ith higher education earn mor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very real way, you are getting paid to go to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477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123920"/>
            <a:ext cx="6858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55600" y="1104840"/>
            <a:ext cx="6832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ts of optimism/high hopes for doing well in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udents used words like “determined” and “dedicated” when writing about applying themselves and passing this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hat you can change negative habits to make sure you p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8840" y="1994040"/>
            <a:ext cx="62863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t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ceed; finish this class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the skills you learn in this class and others to help you succeed in oth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 high; don’t strive only to finish this class, strive for graduation and college and/or professional training after grad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tter life for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paying jobs in the near future have to be taken by someone, why not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do you want to be in 5 years; 10 yea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cisions you make now will affect the rest of your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the decision to take your education seri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your free education to develop yourself into an attractive asset to future employ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in terms of “career” rather than “job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tu, Rene. “What is the value of education?” Labor Market Information Department of the Texas Workforce Commission. December 2003. 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detnews.com/2005/specialreport/0505/30/A01-196693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gative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ath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419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s acknowledgement: you can overcome these negative habits and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 Ess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80880" y="946080"/>
          <a:ext cx="83059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6080"/>
                    <a:ext cx="83059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371600" y="5715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ing into account the 19 absences yester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in your “category” and fail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your habits--get out of the cycle of failure--get back on track to graduation--move on with your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you have already made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comes the important part: acting on the positive choices you made in your essays. Do what you know you need to do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d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43200" y="1066680"/>
          <a:ext cx="3343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066680"/>
                    <a:ext cx="3343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t On Track To Grad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int of going to Summer School is for you to get back on track to graduating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ing classes is a gateway to becoming a high school drop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just “attend” high school--use your right to a free education to make a better life for your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better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(cousin, brother, sister, uncle, dad, mom, friend) didn’t finish high school and they are doing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if I don’t finish high school, I’ll be fin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… people say things like this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8:12:12Z</dcterms:created>
  <dc:creator>Educational Technology</dc:creator>
  <dc:description/>
  <dc:language>en-US</dc:language>
  <cp:lastModifiedBy>Educational Technology</cp:lastModifiedBy>
  <dcterms:modified xsi:type="dcterms:W3CDTF">2009-06-04T23:22:13Z</dcterms:modified>
  <cp:revision>8</cp:revision>
  <dc:subject/>
  <dc:title>Summer School</dc:title>
</cp:coreProperties>
</file>