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055-7EFF-419B-8FB0-45DFF8CC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090-64D6-4E60-BE45-F81D2979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002-E19F-401F-B575-D24B671A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D57-CCFA-4D4B-B9F0-2C96DCD0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AA3-C796-42FC-8520-B276DF52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582-047B-49E8-9A0E-E945FC0F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AB5-B3A2-4EC3-9459-07CCFC08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053-143F-4034-86A8-D411E63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7E4-AD75-47F3-8AF4-D60BBCF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538-1634-4A98-8074-82FFB0B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42B-9B2A-4694-8796-37B3AC1B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9C5-4DFB-4A58-A7FA-797DF69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3182-5484-40F5-82F3-719ED7AF0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 Silently: 4 Paragraph Ess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Briefly introduce yourself. Tell me what kind of student you are. What is your favorite subject? Who was your teacher for this class the first time you took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Explain why you failed English 3C. What caused you to fail this class the first time you tried it?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xplain your response in detai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Describe you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ersonal and academic hab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led to failing th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How do you plan on changing your personal and academic habits to make sure that you pass this class? What are you going to do differently? Give concrete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What will happen if you do change your personal and academic habits that caused you to fail this class in the past? What will happen if you d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hange your personal and academic habits that caused you to fail? Do you think you will succeed and pass this cla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243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5181480"/>
            <a:ext cx="533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ke your time with this essay.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 want to see your best wor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You have until 8:40 to complete it. If you finish early, you must begin reading silently. Those talking/disrupting class in any way will have to leave with a referral (2 referrals = gone from cla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hley LaMan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20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isol Nun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301920" cy="4622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43400" y="1676520"/>
            <a:ext cx="4572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sol gave up her education to support her family’s education in Mexico. After she dropped out of school herself, she values education so greatly that as a gesture of love she is sacrificing her success so that her family will get an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uch more could she support her family of she had an education and a better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cia 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32748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2209680"/>
            <a:ext cx="4419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ood thing about your education is that no matter how old you are you can continue your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y would you want to wait? Why wait when you know that more education leads to more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alue of an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more education lead to more mone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a lifetime,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alue of an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say you spend 40 years of your life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also say you work about 40 hours per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52 weeks in a year--so you work 2,080 hours per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since you work for 40 years, you’re working 83,200 hours in your life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93680" y="1208160"/>
            <a:ext cx="69598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Paid for Going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you try harder at school if you were pai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you go to school every day if you were pai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Paid for Going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32763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the chart I showed you earlier, every day you spend in school you increase your lifetime earnings by $600 to $1,2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ith higher education earn mor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very real way, you are getting paid to go to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477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123920"/>
            <a:ext cx="6858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55600" y="1104840"/>
            <a:ext cx="6832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ts of optimism/high hopes for doing well in thi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tudents used words like “determined” and “dedicated” when writing about applying themselves and passing thi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tion that you can change negative habits to make sure you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8840" y="1994040"/>
            <a:ext cx="62863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rt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ceed; finish this class st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the skills you learn in this class and others to help you succeed in oth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 high; don’t strive only to finish this class, strive for graduation and college and/or professional training after grad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tter life for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paying jobs in the near future have to be taken by someone, why not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do you want to be in 5 years; 10 yea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cisions you make now will affect the rest of your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the decision to take your education seri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your free education to develop yourself into an attractive asset to future employ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in terms of “career” rather than “job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tu, Rene. “What is the value of education?” Labor Market Information Department of the Texas Workforce Commission. December 2003. &l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detnews.com/2005/specialreport/0505/30/A01-196693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gative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ath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4419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s acknowledgement: you can overcome these negative habits and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80880" y="946080"/>
          <a:ext cx="83059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83059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 E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80880" y="946080"/>
          <a:ext cx="83059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83059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ing into account the 19 absences yester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in your “category” and fail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your habits--get out of the cycle of failure--get back on track to graduation--move on with your lif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743200" y="1066680"/>
          <a:ext cx="3343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3343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you have already made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 comes the important part: acting on the positive choices you made in your essays. Do what you know you need to do to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d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43200" y="1066680"/>
          <a:ext cx="3343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3343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On Track To Grad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f going to Summer School is for you to get back on track to graduating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ing classes is a gateway to becoming a high school drop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just “attend” high school--use your right to a free education to make a better life for your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etter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(cousin, brother, sister, uncle, dad, mom, friend) didn’t finish high school and they are doing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 if I don’t finish high school, I’ll be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… people say things like this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8:12:12Z</dcterms:created>
  <dc:creator>Educational Technology</dc:creator>
  <dc:description/>
  <dc:language>en-US</dc:language>
  <cp:lastModifiedBy>Educational Technology</cp:lastModifiedBy>
  <dcterms:modified xsi:type="dcterms:W3CDTF">2009-06-04T23:22:13Z</dcterms:modified>
  <cp:revision>8</cp:revision>
  <dc:subject/>
  <dc:title>Summer School</dc:title>
</cp:coreProperties>
</file>