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F690-D4AC-409F-876F-689947639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C15F-6A31-4395-AFD7-397F5E16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8AE5-AA6B-498A-AB35-5DD318A7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8F61-5A43-4165-9A6F-AA92C3BB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C8A8-41E6-4D2C-90E8-982D4885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367E-98D6-46CC-855A-AA8F4B37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6458-D1AC-49D4-8588-37F36C9E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CDA3-C35E-41BD-B3D8-B8A68B6F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35CC-5227-45D9-BEA4-96CC9169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61B1-F14C-435D-9F5E-2D3BFF3B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D564-63E0-406D-B739-A8D28525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284A-DFC7-473F-8146-4B301B5D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055D-EB20-4903-98D3-BC08BA0CE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tche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 Silently: 4 Paragraph Ess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ragraph 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Briefly introduce yourself. Tell me what kind of student you are. What is your favorite subject? Who was your teacher for this class the first time you took 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ragraph 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Explain why you failed English 3C. What caused you to fail this class the first time you tried it?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 Explain your response in detai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Describe your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personal and academic habi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that led to failing the cl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ragraph 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How do you plan on changing your personal and academic habits to make sure that you pass this class? What are you going to do differently? Give concrete examp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ragraph 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What will happen if you do change your personal and academic habits that caused you to fail this class in the past? What will happen if you do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hange your personal and academic habits that caused you to fail? Do you think you will succeed and pass this cla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334280" y="0"/>
            <a:ext cx="1809720" cy="2438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9880" y="5181480"/>
            <a:ext cx="5334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ake your time with this essay.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 I want to see your best work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You have until 8:40 to complete it. If you finish early, you must begin reading silently. Those talking/disrupting class in any way will have to leave with a referral (2 referrals = gone from clas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shley LaMant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2200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risol Nune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3301920" cy="4622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343400" y="1676520"/>
            <a:ext cx="457200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isol gave up her education to support her family’s education in Mexico. After she dropped out of school herself, she values education so greatly that as a gesture of love she is sacrificing her success so that her family will get an edu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much more could she support her family of she had an education and a better job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ecia Br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3327480" cy="502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09480" y="2209680"/>
            <a:ext cx="441972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good thing about your education is that no matter how old you are you can continue your edu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 why would you want to wait? Why wait when you know that more education leads to more mon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Value of an Edu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 more education lead to more mone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a lifetime, y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Value of an Edu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’s say you spend 40 years of your life wor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’s also say you work about 40 hours per we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52 weeks in a year--so you work 2,080 hours per y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since you work for 40 years, you’re working 83,200 hours in your life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93680" y="1208160"/>
            <a:ext cx="695988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tting Paid for Going To Scho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uld you try harder at school if you were paid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uld you go to school every day if you were paid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tting Paid for Going To Scho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327636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d on the chart I showed you earlier, every day you spend in school you increase your lifetime earnings by $600 to $1,2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ople with higher education earn more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 very real way, you are getting paid to go to sch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048120" y="914400"/>
            <a:ext cx="347796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143000" y="1123920"/>
            <a:ext cx="6858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55600" y="1104840"/>
            <a:ext cx="6832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si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ts of optimism/high hopes for doing well in this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students used words like “determined” and “dedicated” when writing about applying themselves and passing this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gnition that you can change negative habits to make sure you p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428840" y="1994040"/>
            <a:ext cx="6286320" cy="28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art 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cceed; finish this class str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e the skills you learn in this class and others to help you succeed in other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m high; don’t strive only to finish this class, strive for graduation and college and/or professional training after grad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etter life for yo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 paying jobs in the near future have to be taken by someone, why not y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do you want to be in 5 years; 10 yea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ecisions you make now will affect the rest of your l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the decision to take your education serious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your free education to develop yourself into an attractive asset to future employ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nk in terms of “career” rather than “job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ntu, Rene. “What is the value of education?” Labor Market Information Department of the Texas Workforce Commission. December 2003. &lt;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www.detnews.com/2005/specialreport/0505/30/A01-196693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gative Hab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z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athe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ct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52680" y="44197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ss acknowledgement: you can overcome these negative habits and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80880" y="946080"/>
          <a:ext cx="8305920" cy="49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46080"/>
                    <a:ext cx="8305920" cy="49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371600" y="5715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4 Ess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80880" y="946080"/>
          <a:ext cx="8305920" cy="49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46080"/>
                    <a:ext cx="8305920" cy="49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1371600" y="5715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king into account the 19 absences yester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o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y in your “category” and fail ag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e your habits--get out of the cycle of failure--get back on track to graduation--move on with your lif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743200" y="1066680"/>
          <a:ext cx="334332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066680"/>
                    <a:ext cx="334332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o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of you have already made your cho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xt comes the important part: acting on the positive choices you made in your essays. Do what you know you need to do to succ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do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743200" y="1066680"/>
          <a:ext cx="334332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066680"/>
                    <a:ext cx="334332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et On Track To Grad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oint of going to Summer School is for you to get back on track to graduating high scho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iling classes is a gateway to becoming a high school drop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just “attend” high school--use your right to a free education to make a better life for yoursel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better lif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 (cousin, brother, sister, uncle, dad, mom, friend) didn’t finish high school and they are doing fin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n if I don’t finish high school, I’ll be fin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be… people say things like this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8:12:12Z</dcterms:created>
  <dc:creator>Educational Technology</dc:creator>
  <dc:description/>
  <dc:language>en-US</dc:language>
  <cp:lastModifiedBy>Educational Technology</cp:lastModifiedBy>
  <dcterms:modified xsi:type="dcterms:W3CDTF">2009-06-04T23:22:13Z</dcterms:modified>
  <cp:revision>8</cp:revision>
  <dc:subject/>
  <dc:title>Summer School</dc:title>
</cp:coreProperties>
</file>