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991-20F7-46A1-92CA-5E3740DE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A21-6C00-4F09-A33A-3265745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82C-8E1A-45FC-9499-72784450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27D-FE92-4569-9E23-1C1490E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04E-8C24-48E1-B54A-4ECAF32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132-7A1C-4141-9063-9F388DF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0B0-68BE-4207-8D90-E24B28D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87B-875B-4517-87E2-79FDFE42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815-3286-430E-870B-6D35308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0D6-9E00-444F-8561-CE9C4C7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2B7-57D3-4451-A035-2696D9F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F3F-C3DE-404B-B621-6EDFA7F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42B8-A8A5-4FC7-B8C5-EB233388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Silently: 4 Paragraph Ess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Briefly introduce yourself. Tell me what kind of student you are. What is your favorite subject? Who was your teacher for this class the first time you took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xplain why you failed English 3C. What caused you to fail this class the first time you tried it?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xplain your response in det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Describe 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sonal and academic hab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led to failing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How do you plan on changing your personal and academic habits to make sure that you pass this class? What are you going to do differently? Give concret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What will happen if you do change your personal and academic habits that caused you to fail this class in the past? What will happen if you d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hange your personal and academic habits that caused you to fail? Do you think you will succeed and pass this 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518148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ke your time with this essay.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 want to see your best wor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You have until 8:40 to complete it. If you finish early, you must begin reading silently. Those talking/disrupting class in any way will have to leave with a referral (2 referrals = gone from cla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ley LaMan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sol Nun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3019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676520"/>
            <a:ext cx="457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sol gave up her education to support her family’s education in Mexico. After she dropped out of school herself, she values education so greatly that as a gesture of love she is sacrificing her success so that her family will get an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uch more could she support her family of she had an education and a better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cia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327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220968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od thing about your education is that no matter how old you are you can continue your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y would you want to wait? Why wait when you know that more education leads to mor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more education lead to more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a lifetime,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say you spend 40 years of your life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lso say you work about 40 hours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52 weeks in a year--so you work 2,080 hours per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ince you work for 40 years, you’re working 83,200 hours in your life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3680" y="1208160"/>
            <a:ext cx="695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try harder at school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go to school every day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the chart I showed you earlier, every day you spend in school you increase your lifetime earnings by $600 to $1,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ith higher education earn mor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very real way, you are getting paid to go to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477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123920"/>
            <a:ext cx="6858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5600" y="1104840"/>
            <a:ext cx="683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ts of optimism/high hopes for doing well in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udents used words like “determined” and “dedicated” when writing about applying themselves and passing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hat you can change negative habits to make sure you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8840" y="1994040"/>
            <a:ext cx="62863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t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ed; finish this clas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kills you learn in this class and others to help you succeed in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 high; don’t strive only to finish this class, strive for graduation and college and/or professional training after grad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tter life for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paying jobs in the near future have to be taken by someone, why not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 you want to be in 5 years; 10 yea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cisions you make now will affect the rest of you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he decision to take your education seri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your free education to develop yourself into an attractive asset to future emplo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terms of “career” rather than “job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u, Rene. “What is the value of education?” Labor Market Information Department of the Texas Workforce Commission. December 2003. 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detnews.com/2005/specialreport/0505/30/A01-196693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a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s acknowledgement: you can overcome these negative habits and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E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ing into account the 19 absences yeste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in your “category” and fail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your habits--get out of the cycle of failure--get back on track to graduation--move on with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you have already made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comes the important part: acting on the positive choices you made in your essays. Do what you know you need to do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On Track To Grad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f going to Summer School is for you to get back on track to graduating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ing classes is a gateway to becoming a high school drop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st “attend” high school--use your right to a free education to make a better life for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(cousin, brother, sister, uncle, dad, mom, friend) didn’t finish high school and they are doing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if I don’t finish high school, I’ll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… people say things like thi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12:12Z</dcterms:created>
  <dc:creator>Educational Technology</dc:creator>
  <dc:description/>
  <dc:language>en-US</dc:language>
  <cp:lastModifiedBy>Educational Technology</cp:lastModifiedBy>
  <dcterms:modified xsi:type="dcterms:W3CDTF">2009-06-04T23:22:13Z</dcterms:modified>
  <cp:revision>8</cp:revision>
  <dc:subject/>
  <dc:title>Summer School</dc:title>
</cp:coreProperties>
</file>