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move the slid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B14CC-F9DD-4C63-AF1B-9D024A086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D2DEE-469E-49DA-B19F-DD1C86CD226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639F-5172-4B7A-B570-94104ABDF02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AC4E1-057B-45A3-89B3-62A6ACA7717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E999-622F-4A40-AA48-8EC8DB5A5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52F0-90F7-41BD-8B3A-FB58CEAB5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69B1-3D56-4196-857D-A2FFBEAE0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AAD7-B5B9-494B-851A-DCDAA53AF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B10E3-7E3A-48EB-B8CE-B1DB0F131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5F237-5CB7-437E-8CE4-5B428C3F7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8FB2A-C542-454F-A19B-B2ABBD15E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B3A79-8993-4156-A606-7E9958A96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12FF8-DE54-457B-A148-704689C54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D3958-AE85-4766-8D57-57F711D92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9CE2E-A210-4E59-BB2B-508390A7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5DD0-C775-4DA1-ACBE-7060A5A9A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FD839-6B25-4581-A512-DF5DA76E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B01FC-7980-4044-BA9E-49D21E0C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3DA02-D5D4-46B3-8625-6F37DAE83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A1697-4AF5-4AD6-9E23-76EEFFA3A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265DE-E1C4-4C0A-8167-B61BC8ED5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E2F9-C0D5-44AC-A369-2F363C9D9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9444-7D93-4A5B-83F9-31E5DE9F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DB5F-46D8-4630-8712-86960AEF9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F8FC-DA6F-4771-B8C6-F7CE9421B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BB1E-24C8-4B7A-B358-D3C6A312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8AF8-FCEB-40BC-AA52-66870C55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8800-38F1-4845-BF5A-89A27A88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963E8-E542-4361-9EDB-7EF92BCEF86B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D7439-4B1C-4FDB-817F-2C0CA5E19B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AA9A1-87F7-4228-959D-A86245054BEE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605D8-1099-49CD-A86F-85F97AB1C2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D337B-97EE-45F7-81E1-C87D56B9B4A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76160" y="426960"/>
            <a:ext cx="746604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0000"/>
                </a:solidFill>
                <a:latin typeface="Arial Narrow"/>
              </a:rPr>
              <a:t>Run-on Sentences</a:t>
            </a:r>
            <a:r>
              <a:rPr b="0" i="1" lang="en-US" sz="6600" spc="-1" strike="noStrike">
                <a:solidFill>
                  <a:srgbClr val="000000"/>
                </a:solidFill>
                <a:latin typeface="Arial Narrow"/>
              </a:rPr>
              <a:t>-on Sentences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Line 8"/>
          <p:cNvSpPr/>
          <p:nvPr/>
        </p:nvSpPr>
        <p:spPr>
          <a:xfrm>
            <a:off x="1447920" y="1219320"/>
            <a:ext cx="5867280" cy="0"/>
          </a:xfrm>
          <a:prstGeom prst="line">
            <a:avLst/>
          </a:prstGeom>
          <a:ln w="76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1295280" y="1676520"/>
            <a:ext cx="6172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ff66"/>
                </a:solidFill>
                <a:latin typeface="Times New Roman"/>
              </a:rPr>
              <a:t>A run-on sentence is a sentence that contains two improperly joined sentences (independent clauses)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7500"/>
                            </p:stCondLst>
                            <p:childTnLst>
                              <p:par>
                                <p:cTn id="14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3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96E72-08F0-48B5-9525-16B986041F4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0000"/>
                </a:solidFill>
                <a:uFillTx/>
                <a:latin typeface="Arial"/>
              </a:rPr>
              <a:t>There are two types of run-on sentences: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66880" y="2133720"/>
            <a:ext cx="60962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8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Fused sentenc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2666880" y="4038480"/>
            <a:ext cx="60962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376"/>
              </a:spcBef>
              <a:buClr>
                <a:srgbClr val="8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omma splic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3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3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3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7F1E6-63A0-4190-A830-F4A7E933B65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28800" y="228600"/>
            <a:ext cx="63993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ff0000"/>
                </a:solidFill>
                <a:uFillTx/>
                <a:latin typeface="Arial Narrow"/>
              </a:rPr>
              <a:t>Fused Sentences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438280" y="25142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Fused Sentence Occurs When Two Sentences Are Joined Without Any Punctu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457200" y="4648320"/>
            <a:ext cx="8381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correct: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ome students think they can study for an important exam by “cramming” all night they are probably wro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3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3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4316D-D844-4A49-BE75-87F71F3293E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6399360" cy="126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ff0000"/>
                </a:solidFill>
                <a:uFillTx/>
                <a:latin typeface="Arial Narrow"/>
              </a:rPr>
              <a:t>Comma Splices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285640" y="2437920"/>
            <a:ext cx="6629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comma splice occurs when two sentences are joined with only a com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33520" y="4495680"/>
            <a:ext cx="86104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correct: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teacher told the students to complete the section on comma splices, she also told them to compose a five-page ess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75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75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75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75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46F50-0A36-485D-A4D1-00DC8A45FDA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38088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0000"/>
                </a:solidFill>
                <a:uFillTx/>
                <a:latin typeface="Arial Narrow"/>
              </a:rPr>
              <a:t>Four Ways to Correct Run-on Sentences.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1219320" y="2971800"/>
            <a:ext cx="304560" cy="533520"/>
          </a:xfrm>
          <a:custGeom>
            <a:avLst/>
            <a:gdLst>
              <a:gd name="textAreaLeft" fmla="*/ 106560 w 304560"/>
              <a:gd name="textAreaRight" fmla="*/ 198000 w 304560"/>
              <a:gd name="textAreaTop" fmla="*/ 186480 h 533520"/>
              <a:gd name="textAreaBottom" fmla="*/ 3470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5" y="7555"/>
                </a:lnTo>
                <a:lnTo>
                  <a:pt x="10800" y="0"/>
                </a:lnTo>
                <a:lnTo>
                  <a:pt x="14045" y="7555"/>
                </a:lnTo>
                <a:lnTo>
                  <a:pt x="21600" y="10800"/>
                </a:lnTo>
                <a:lnTo>
                  <a:pt x="14045" y="14045"/>
                </a:lnTo>
                <a:lnTo>
                  <a:pt x="10800" y="21600"/>
                </a:lnTo>
                <a:lnTo>
                  <a:pt x="7555" y="14045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8"/>
          <p:cNvSpPr/>
          <p:nvPr/>
        </p:nvSpPr>
        <p:spPr>
          <a:xfrm>
            <a:off x="1066680" y="4952880"/>
            <a:ext cx="381240" cy="4572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3124080" y="2057400"/>
            <a:ext cx="27432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Use a period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1828800" y="2971800"/>
            <a:ext cx="60958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randa was the lead vocalist in her band it was a punk rock ba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1905120" y="4724280"/>
            <a:ext cx="68580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randa was the lead vocalist in her band. It was a punk rock ba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500"/>
                            </p:stCondLst>
                            <p:childTnLst>
                              <p:par>
                                <p:cTn id="96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18841-B11D-4B58-A1E3-282C721C88E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600" y="456840"/>
            <a:ext cx="6399360" cy="111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lnSpc>
                <a:spcPct val="8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 Narrow"/>
              </a:rPr>
              <a:t>Use a Semicolon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514240" y="2362320"/>
            <a:ext cx="60958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ome students think they can study for an important exam by “cramming” all night they are probably wro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1523880" y="2362320"/>
            <a:ext cx="381240" cy="533160"/>
          </a:xfrm>
          <a:custGeom>
            <a:avLst/>
            <a:gdLst>
              <a:gd name="textAreaLeft" fmla="*/ 156960 w 381240"/>
              <a:gd name="textAreaRight" fmla="*/ 224280 w 3812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5"/>
          <p:cNvSpPr/>
          <p:nvPr/>
        </p:nvSpPr>
        <p:spPr>
          <a:xfrm>
            <a:off x="1600200" y="4114800"/>
            <a:ext cx="380880" cy="4572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2590920" y="4114800"/>
            <a:ext cx="63244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ome students think they can study for an important exam by “cramming” all night; they are probably wro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4EBDC-5F3E-40EB-9620-192E8AE220D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520" y="426600"/>
            <a:ext cx="7618680" cy="124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lnSpc>
                <a:spcPct val="8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Use a comma and a coordinating conjunction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(and, but, yet, for, or, nor, so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2514240" y="2361960"/>
            <a:ext cx="609588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rst I Went to the grocery store then I went to the libra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1523880" y="2362320"/>
            <a:ext cx="381240" cy="533160"/>
          </a:xfrm>
          <a:custGeom>
            <a:avLst/>
            <a:gdLst>
              <a:gd name="textAreaLeft" fmla="*/ 156960 w 381240"/>
              <a:gd name="textAreaRight" fmla="*/ 224280 w 3812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5"/>
          <p:cNvSpPr/>
          <p:nvPr/>
        </p:nvSpPr>
        <p:spPr>
          <a:xfrm>
            <a:off x="1600200" y="4038480"/>
            <a:ext cx="380880" cy="4572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2666880" y="3962520"/>
            <a:ext cx="556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rst I went to grocery store, and then I went to the libra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B6DA9-DD94-4458-9014-2B13FFF59CE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14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lnSpc>
                <a:spcPct val="8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Add a subordinating conjunction or dependent word.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514240" y="23619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ria and John like skiing Karen does not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1752480" y="2209680"/>
            <a:ext cx="381240" cy="533520"/>
          </a:xfrm>
          <a:custGeom>
            <a:avLst/>
            <a:gdLst>
              <a:gd name="textAreaLeft" fmla="*/ 146880 w 381240"/>
              <a:gd name="textAreaRight" fmla="*/ 234360 w 381240"/>
              <a:gd name="textAreaTop" fmla="*/ 205560 h 533520"/>
              <a:gd name="textAreaBottom" fmla="*/ 327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330" y="8330"/>
                </a:lnTo>
                <a:lnTo>
                  <a:pt x="10800" y="0"/>
                </a:lnTo>
                <a:lnTo>
                  <a:pt x="13270" y="8330"/>
                </a:lnTo>
                <a:lnTo>
                  <a:pt x="21600" y="10800"/>
                </a:lnTo>
                <a:lnTo>
                  <a:pt x="13270" y="13270"/>
                </a:lnTo>
                <a:lnTo>
                  <a:pt x="10800" y="21600"/>
                </a:lnTo>
                <a:lnTo>
                  <a:pt x="8330" y="1327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1600200" y="3505320"/>
            <a:ext cx="45720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1676520" y="4724280"/>
            <a:ext cx="70866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me common </a:t>
            </a: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subordinating conjunction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fter, although, before, unless, as, because, even though, if, since, until, when, whi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2514600" y="3429000"/>
            <a:ext cx="6095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though Maria and John like skiing, Karen does no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vasquez</dc:creator>
  <dc:description/>
  <dc:language>en-US</dc:language>
  <cp:lastModifiedBy>nvasquez</cp:lastModifiedBy>
  <dcterms:modified xsi:type="dcterms:W3CDTF">2008-09-13T05:54:16Z</dcterms:modified>
  <cp:revision>32</cp:revision>
  <dc:subject/>
  <dc:title>PowerPoint Presentation</dc:title>
</cp:coreProperties>
</file>