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523-C154-4F53-8583-2BA687A7A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B2D0-FC23-4DB3-84C8-62CA99780D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C119-2DC2-4B25-A0B7-3145372FC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E04E-F644-4420-9DA2-4D87C4A094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97C-BADA-4A16-843E-18E484A2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D27-7DCC-4069-9233-26384BB1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39A-E131-43A0-97C3-70AB3001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702-90A0-4151-83DA-B29E313A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432F-73AA-4004-AE3D-DDCB9EA6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FD07-DB11-4DBA-90CF-FEE0120F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E6D-E993-43C4-BA25-59A49B9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82BC-81D2-4EB1-8C46-CEE71874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C0DF-F8A0-47BD-A8A6-E16A3D8E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F67C-3D31-4F79-8F1F-37B32C37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8AB-0902-4033-AD41-123CB114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AD3-F309-470C-831F-FB29F4A5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E768-DFED-4741-B81B-653F2328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47BC-4ED6-4886-A15E-CA2789E1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1042-2CDF-496D-8AA3-DDDBD5F4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9A1E-5DD8-4B98-B126-05AFA8CB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5C70-FA48-4F8A-8087-D8DB26F7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F29-DD3A-4337-805E-429BDF53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9D2-3E96-4721-A41C-62EA1412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712-F5F8-4963-A121-06EBF6A4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EE8-D3FB-4091-9AC8-570A8D85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59A-997C-44A3-AA11-D3A5CA6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589-8626-49E3-849A-1DCC9A3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4AE-BACB-4AF6-BB21-1651177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C5E2-D1E1-49C4-8807-798649B356F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85D6-326F-40EB-B068-A3BBB3697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9A72-684D-4B62-9730-098EC35C800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1244-B0A7-4952-987C-29ABABC42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4EB-D29E-4B8F-8DBC-C59B23B41F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2696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Narrow"/>
              </a:rPr>
              <a:t>Run-on Sentences</a:t>
            </a:r>
            <a:r>
              <a:rPr b="0" i="1" lang="en-US" sz="6600" spc="-1" strike="noStrike">
                <a:solidFill>
                  <a:srgbClr val="000000"/>
                </a:solidFill>
                <a:latin typeface="Arial Narrow"/>
              </a:rPr>
              <a:t>-on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47920" y="1219320"/>
            <a:ext cx="586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295280" y="167652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A run-on sentence is a sentence that contains two improperly joined sentences (independent clause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33AE-A7C2-4617-9D54-0C6F021486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re are two types of run-on sentence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used senten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666880" y="4038480"/>
            <a:ext cx="6096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a spl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84BF-BD54-4B17-95EA-C37FA038AF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99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Fused Senten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438280" y="2514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used Sentence Occurs When Two Sentences Are Joined Without Any Punct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46483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D8BF-BCF2-4DE0-84BF-B46E64AA6F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399360" cy="12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 Narrow"/>
              </a:rPr>
              <a:t>Comma Splic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5640" y="2437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ma splice occurs when two sentences are joined with only a com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449568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correct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teacher told the students to complete the section on comma splices, she also told them to compose a five-page ess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20E4-F5DC-45A8-AF24-1F1AFEA4BE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Narrow"/>
              </a:rPr>
              <a:t>Four Ways to Correct Run-on Sentences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219320" y="2971800"/>
            <a:ext cx="304560" cy="533520"/>
          </a:xfrm>
          <a:custGeom>
            <a:avLst/>
            <a:gdLst>
              <a:gd name="textAreaLeft" fmla="*/ 106560 w 304560"/>
              <a:gd name="textAreaRight" fmla="*/ 198000 w 304560"/>
              <a:gd name="textAreaTop" fmla="*/ 186480 h 533520"/>
              <a:gd name="textAreaBottom" fmla="*/ 34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066680" y="4952880"/>
            <a:ext cx="38124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124080" y="2057400"/>
            <a:ext cx="2743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a perio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828800" y="2971800"/>
            <a:ext cx="60958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905120" y="4724280"/>
            <a:ext cx="6858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randa was the lead vocalist in her band. It was a punk rock b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9C3-73A5-4283-8264-32439EA674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3993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Use a Semicolo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14240" y="2362320"/>
            <a:ext cx="6095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600200" y="41148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90920" y="4114800"/>
            <a:ext cx="6324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students think they can study for an important exam by “cramming” all night; they are probably wro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07EA-C92B-4FB2-89E2-3C924F8B3A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426600"/>
            <a:ext cx="761868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se a comma and a coordinating conjunc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and, but, yet, for, or, nor, so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095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the grocery store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523880" y="2362320"/>
            <a:ext cx="381240" cy="533160"/>
          </a:xfrm>
          <a:custGeom>
            <a:avLst/>
            <a:gdLst>
              <a:gd name="textAreaLeft" fmla="*/ 156960 w 381240"/>
              <a:gd name="textAreaRight" fmla="*/ 224280 w 3812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600200" y="403848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66880" y="396252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I went to grocery store, and then I went to th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0F52-5465-4796-AFBF-E2B8C91A1A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dd a subordinating conjunction or dependent word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4240" y="23619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a and John like skiing Karen does no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2209680"/>
            <a:ext cx="381240" cy="533520"/>
          </a:xfrm>
          <a:custGeom>
            <a:avLst/>
            <a:gdLst>
              <a:gd name="textAreaLeft" fmla="*/ 146880 w 381240"/>
              <a:gd name="textAreaRight" fmla="*/ 234360 w 381240"/>
              <a:gd name="textAreaTop" fmla="*/ 205560 h 533520"/>
              <a:gd name="textAreaBottom" fmla="*/ 327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30" y="8330"/>
                </a:lnTo>
                <a:lnTo>
                  <a:pt x="10800" y="0"/>
                </a:lnTo>
                <a:lnTo>
                  <a:pt x="13270" y="8330"/>
                </a:lnTo>
                <a:lnTo>
                  <a:pt x="21600" y="10800"/>
                </a:lnTo>
                <a:lnTo>
                  <a:pt x="13270" y="13270"/>
                </a:lnTo>
                <a:lnTo>
                  <a:pt x="10800" y="21600"/>
                </a:lnTo>
                <a:lnTo>
                  <a:pt x="8330" y="1327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600200" y="35053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676520" y="47242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ommon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ubordinating conjunc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fter, although, before, unless, as, because, even though, if, since, until, when, w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514600" y="34290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Maria and John like skiing, Karen doe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vasquez</dc:creator>
  <dc:description/>
  <dc:language>en-US</dc:language>
  <cp:lastModifiedBy>nvasquez</cp:lastModifiedBy>
  <dcterms:modified xsi:type="dcterms:W3CDTF">2008-09-13T05:54:16Z</dcterms:modified>
  <cp:revision>32</cp:revision>
  <dc:subject/>
  <dc:title>PowerPoint Presentation</dc:title>
</cp:coreProperties>
</file>