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move the slid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054D6-BBA4-4DC8-B6F7-4A25A5D34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9C5E8-0B4C-441A-85A6-7AC84439628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9023-B0C5-4CAE-AAE5-B384164158F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A1B45-A908-4BC4-992D-63D4F85CC8E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42D1-2374-437B-BDBB-F84ADEBB4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C25F-6AC0-4400-BE4C-4ACB39977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DD29-9462-4CD5-9943-24977FEB4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DF49-F840-4103-A546-A63DC4025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36A18-D99A-4D3B-83B3-6DFB80AC6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B2591-E59C-40A9-B960-0002A115E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AC664-F30D-440D-90D0-8681CCF04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9E8BF-46F7-44CC-8AFD-B0715D6E7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FA235-F95B-4758-93A4-0799AE65A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4DFDB-4DCE-4195-B4C0-C6ED6EF75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88EAD-883D-4B13-A18C-7B9F08A0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8D0E-F709-41EB-8B38-6C2398CEB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3126C-FA9F-4560-B9DD-7A3D8814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154F6-6DE6-43CA-8996-EE7AABF3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8C910-ABE0-4EE1-9A86-5F70598F0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7BAD1-7173-432C-973E-1ED207A3B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4ED1D-02FC-4A62-B2BA-9442292CE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705D-6678-4EF1-8696-04958FDC4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2FB2-31EB-46B0-AD86-236D9B706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BC69-92BD-43C9-98F9-91EFF7393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410F-C74D-4E09-8D4E-64E5553FE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B44D-6862-40F1-8E2F-E069389C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F154-5AD9-4ACD-8228-FBAF7F9B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4046-81CA-44D1-AFDD-8C834C36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6A024-5B6C-42F0-9B43-58455C5BD59D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C2B6C-D8FE-4EFF-B4B2-230EACEEB7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9BEBC-C7D4-4C91-8A4B-746E1BC6E2AD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5A778-09BB-4500-96E4-7349B9A6D5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4675B-9F27-4426-B512-2B1D73051B2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76160" y="426960"/>
            <a:ext cx="746604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0000"/>
                </a:solidFill>
                <a:latin typeface="Arial Narrow"/>
              </a:rPr>
              <a:t>Run-on Sentences</a:t>
            </a:r>
            <a:r>
              <a:rPr b="0" i="1" lang="en-US" sz="6600" spc="-1" strike="noStrike">
                <a:solidFill>
                  <a:srgbClr val="000000"/>
                </a:solidFill>
                <a:latin typeface="Arial Narrow"/>
              </a:rPr>
              <a:t>-on Sentences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Line 8"/>
          <p:cNvSpPr/>
          <p:nvPr/>
        </p:nvSpPr>
        <p:spPr>
          <a:xfrm>
            <a:off x="1447920" y="1219320"/>
            <a:ext cx="5867280" cy="0"/>
          </a:xfrm>
          <a:prstGeom prst="line">
            <a:avLst/>
          </a:prstGeom>
          <a:ln w="76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1295280" y="1676520"/>
            <a:ext cx="6172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ff66"/>
                </a:solidFill>
                <a:latin typeface="Times New Roman"/>
              </a:rPr>
              <a:t>A run-on sentence is a sentence that contains two improperly joined sentences (independent clauses)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7500"/>
                            </p:stCondLst>
                            <p:childTnLst>
                              <p:par>
                                <p:cTn id="14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3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72BFF-D760-4E23-A6F6-918F7BF1302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0000"/>
                </a:solidFill>
                <a:uFillTx/>
                <a:latin typeface="Arial"/>
              </a:rPr>
              <a:t>There are two types of run-on sentences: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66880" y="2133720"/>
            <a:ext cx="60962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8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Fused sentenc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2666880" y="4038480"/>
            <a:ext cx="60962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376"/>
              </a:spcBef>
              <a:buClr>
                <a:srgbClr val="8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omma splic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3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3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3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E6A41-2B22-4F83-AC2C-D8215E4ADC9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28800" y="228600"/>
            <a:ext cx="63993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ff0000"/>
                </a:solidFill>
                <a:uFillTx/>
                <a:latin typeface="Arial Narrow"/>
              </a:rPr>
              <a:t>Fused Sentences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438280" y="25142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Fused Sentence Occurs When Two Sentences Are Joined Without Any Punctu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457200" y="4648320"/>
            <a:ext cx="8381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correct: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ome students think they can study for an important exam by “cramming” all night they are probably wro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3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3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58B7A-A6CD-4943-B727-1948382D5A2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6399360" cy="126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ff0000"/>
                </a:solidFill>
                <a:uFillTx/>
                <a:latin typeface="Arial Narrow"/>
              </a:rPr>
              <a:t>Comma Splices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285640" y="2437920"/>
            <a:ext cx="6629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comma splice occurs when two sentences are joined with only a com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33520" y="4495680"/>
            <a:ext cx="86104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correct: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teacher told the students to complete the section on comma splices, she also told them to compose a five-page ess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75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75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75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75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D35B7-846E-4C6D-A943-9E009EB9394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38088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0000"/>
                </a:solidFill>
                <a:uFillTx/>
                <a:latin typeface="Arial Narrow"/>
              </a:rPr>
              <a:t>Four Ways to Correct Run-on Sentences.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1219320" y="2971800"/>
            <a:ext cx="304560" cy="533520"/>
          </a:xfrm>
          <a:custGeom>
            <a:avLst/>
            <a:gdLst>
              <a:gd name="textAreaLeft" fmla="*/ 106560 w 304560"/>
              <a:gd name="textAreaRight" fmla="*/ 198000 w 304560"/>
              <a:gd name="textAreaTop" fmla="*/ 186480 h 533520"/>
              <a:gd name="textAreaBottom" fmla="*/ 3470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5" y="7555"/>
                </a:lnTo>
                <a:lnTo>
                  <a:pt x="10800" y="0"/>
                </a:lnTo>
                <a:lnTo>
                  <a:pt x="14045" y="7555"/>
                </a:lnTo>
                <a:lnTo>
                  <a:pt x="21600" y="10800"/>
                </a:lnTo>
                <a:lnTo>
                  <a:pt x="14045" y="14045"/>
                </a:lnTo>
                <a:lnTo>
                  <a:pt x="10800" y="21600"/>
                </a:lnTo>
                <a:lnTo>
                  <a:pt x="7555" y="14045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8"/>
          <p:cNvSpPr/>
          <p:nvPr/>
        </p:nvSpPr>
        <p:spPr>
          <a:xfrm>
            <a:off x="1066680" y="4952880"/>
            <a:ext cx="381240" cy="4572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3124080" y="2057400"/>
            <a:ext cx="27432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Use a period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1828800" y="2971800"/>
            <a:ext cx="60958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randa was the lead vocalist in her band it was a punk rock ba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1905120" y="4724280"/>
            <a:ext cx="68580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randa was the lead vocalist in her band. It was a punk rock ba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500"/>
                            </p:stCondLst>
                            <p:childTnLst>
                              <p:par>
                                <p:cTn id="96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200E5-A34B-4FB1-AB73-F66548E5A31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600" y="456840"/>
            <a:ext cx="6399360" cy="111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lnSpc>
                <a:spcPct val="8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 Narrow"/>
              </a:rPr>
              <a:t>Use a Semicolon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514240" y="2362320"/>
            <a:ext cx="60958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ome students think they can study for an important exam by “cramming” all night they are probably wro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1523880" y="2362320"/>
            <a:ext cx="381240" cy="533160"/>
          </a:xfrm>
          <a:custGeom>
            <a:avLst/>
            <a:gdLst>
              <a:gd name="textAreaLeft" fmla="*/ 156960 w 381240"/>
              <a:gd name="textAreaRight" fmla="*/ 224280 w 3812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5"/>
          <p:cNvSpPr/>
          <p:nvPr/>
        </p:nvSpPr>
        <p:spPr>
          <a:xfrm>
            <a:off x="1600200" y="4114800"/>
            <a:ext cx="380880" cy="4572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2590920" y="4114800"/>
            <a:ext cx="63244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ome students think they can study for an important exam by “cramming” all night; they are probably wro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852BA-03B2-438B-968B-DAF755828E0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520" y="426600"/>
            <a:ext cx="7618680" cy="124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lnSpc>
                <a:spcPct val="8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Use a comma and a coordinating conjunction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(and, but, yet, for, or, nor, so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2514240" y="2361960"/>
            <a:ext cx="609588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rst I Went to the grocery store then I went to the libra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1523880" y="2362320"/>
            <a:ext cx="381240" cy="533160"/>
          </a:xfrm>
          <a:custGeom>
            <a:avLst/>
            <a:gdLst>
              <a:gd name="textAreaLeft" fmla="*/ 156960 w 381240"/>
              <a:gd name="textAreaRight" fmla="*/ 224280 w 3812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5"/>
          <p:cNvSpPr/>
          <p:nvPr/>
        </p:nvSpPr>
        <p:spPr>
          <a:xfrm>
            <a:off x="1600200" y="4038480"/>
            <a:ext cx="380880" cy="4572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2666880" y="3962520"/>
            <a:ext cx="556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rst I went to grocery store, and then I went to the libra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22B96-F8E8-42D9-9829-81CD983ACDF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14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lnSpc>
                <a:spcPct val="8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Add a subordinating conjunction or dependent word.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514240" y="23619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ria and John like skiing Karen does not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1752480" y="2209680"/>
            <a:ext cx="381240" cy="533520"/>
          </a:xfrm>
          <a:custGeom>
            <a:avLst/>
            <a:gdLst>
              <a:gd name="textAreaLeft" fmla="*/ 146880 w 381240"/>
              <a:gd name="textAreaRight" fmla="*/ 234360 w 381240"/>
              <a:gd name="textAreaTop" fmla="*/ 205560 h 533520"/>
              <a:gd name="textAreaBottom" fmla="*/ 327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330" y="8330"/>
                </a:lnTo>
                <a:lnTo>
                  <a:pt x="10800" y="0"/>
                </a:lnTo>
                <a:lnTo>
                  <a:pt x="13270" y="8330"/>
                </a:lnTo>
                <a:lnTo>
                  <a:pt x="21600" y="10800"/>
                </a:lnTo>
                <a:lnTo>
                  <a:pt x="13270" y="13270"/>
                </a:lnTo>
                <a:lnTo>
                  <a:pt x="10800" y="21600"/>
                </a:lnTo>
                <a:lnTo>
                  <a:pt x="8330" y="1327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1600200" y="3505320"/>
            <a:ext cx="45720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1676520" y="4724280"/>
            <a:ext cx="70866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me common </a:t>
            </a: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subordinating conjunction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fter, although, before, unless, as, because, even though, if, since, until, when, whi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2514600" y="3429000"/>
            <a:ext cx="6095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though Maria and John like skiing, Karen does no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vasquez</dc:creator>
  <dc:description/>
  <dc:language>en-US</dc:language>
  <cp:lastModifiedBy>nvasquez</cp:lastModifiedBy>
  <dcterms:modified xsi:type="dcterms:W3CDTF">2008-09-13T05:54:16Z</dcterms:modified>
  <cp:revision>32</cp:revision>
  <dc:subject/>
  <dc:title>PowerPoint Presentation</dc:title>
</cp:coreProperties>
</file>