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9836-B905-4416-B4B7-DC2E5CC5C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60E1-92B5-4F06-9AA0-C42F213208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3D2B-1ACA-4858-B41B-53E371A1B8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5298-69B5-40AC-A2A8-6269BC02C0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89E1-B042-4EA0-92C3-D3F017B1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5B5-ACEF-4C4F-B0AC-B3AC1A29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61D7-2CEB-4ACF-AB3B-796E16D5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C580-671F-4B9E-97F2-09083CEB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B813-CC1C-41A6-B916-98510FA9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D50F-6872-42A6-AEBE-1BE83715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5BB7-4699-458A-BAF1-D7B9FD90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5EAC-4FED-4B92-931F-A11628B1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2F52-00C2-4272-A0B6-B24ACC82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3B21-0050-4F66-9D85-1D72382C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759C-4ED9-4483-A113-B5DABF3C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AD19-A731-4B89-8638-73ECBA27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11A2-9D2A-480D-A8FE-EEFCC1BB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51FB-E88C-45A1-8AB4-F44C8144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0A4B-01A5-4593-BA9C-A4C2D0AE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40CD-BAF5-4938-823D-275BD013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9035-8260-46A2-95C3-B6419C7D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42F-6F8A-4B89-8B63-775E25DA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356C-EC32-43B4-A275-3858499F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271-9A57-412A-81BA-D549BE73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97F-D985-4FC1-99AA-E55EDF4E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BE92-9D61-4AFE-816B-162CD8CF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BFBA-04EC-4076-831B-F14E512D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6C7-3DD7-45D3-9B47-1168E335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38F0-7363-41C3-ACE3-150B7AF2FB6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A981-FC95-49CF-A6D0-84E8C64F82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21C1-10E5-4579-96C1-0D3EC7236A7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B107-B302-4C4E-BA3D-C726A4D7F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6D44-32E5-4752-8489-CC10CB2DBB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426960"/>
            <a:ext cx="74660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Arial Narrow"/>
              </a:rPr>
              <a:t>Run-on Sentences</a:t>
            </a:r>
            <a:r>
              <a:rPr b="0" i="1" lang="en-US" sz="6600" spc="-1" strike="noStrike">
                <a:solidFill>
                  <a:srgbClr val="000000"/>
                </a:solidFill>
                <a:latin typeface="Arial Narrow"/>
              </a:rPr>
              <a:t>-on Sentenc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447920" y="1219320"/>
            <a:ext cx="5867280" cy="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295280" y="1676520"/>
            <a:ext cx="6172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66"/>
                </a:solidFill>
                <a:latin typeface="Times New Roman"/>
              </a:rPr>
              <a:t>A run-on sentence is a sentence that contains two improperly joined sentences (independent clauses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2DEB-A3E7-41E5-BE30-C61B187823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There are two types of run-on sentences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6880" y="2133720"/>
            <a:ext cx="60962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used senten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666880" y="4038480"/>
            <a:ext cx="60962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ma spli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3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74FC-A73C-468F-A803-D8AA3A656A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399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00"/>
                </a:solidFill>
                <a:uFillTx/>
                <a:latin typeface="Arial Narrow"/>
              </a:rPr>
              <a:t>Fused Sentenc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438280" y="25142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Fused Sentence Occurs When Two Sentences Are Joined Without Any Punct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57200" y="46483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correct: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3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F21C-50A5-4A68-9478-42F8DF05A2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399360" cy="126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00"/>
                </a:solidFill>
                <a:uFillTx/>
                <a:latin typeface="Arial Narrow"/>
              </a:rPr>
              <a:t>Comma Splic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285640" y="243792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omma splice occurs when two sentences are joined with only a com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3520" y="4495680"/>
            <a:ext cx="8610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correct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eacher told the students to complete the section on comma splices, she also told them to compose a five-page ess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E440-F773-4500-AE28-296848F7FD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Narrow"/>
              </a:rPr>
              <a:t>Four Ways to Correct Run-on Sentences.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219320" y="2971800"/>
            <a:ext cx="304560" cy="533520"/>
          </a:xfrm>
          <a:custGeom>
            <a:avLst/>
            <a:gdLst>
              <a:gd name="textAreaLeft" fmla="*/ 106560 w 304560"/>
              <a:gd name="textAreaRight" fmla="*/ 198000 w 304560"/>
              <a:gd name="textAreaTop" fmla="*/ 186480 h 533520"/>
              <a:gd name="textAreaBottom" fmla="*/ 3470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5" y="7555"/>
                </a:lnTo>
                <a:lnTo>
                  <a:pt x="10800" y="0"/>
                </a:lnTo>
                <a:lnTo>
                  <a:pt x="14045" y="7555"/>
                </a:lnTo>
                <a:lnTo>
                  <a:pt x="21600" y="10800"/>
                </a:lnTo>
                <a:lnTo>
                  <a:pt x="14045" y="14045"/>
                </a:lnTo>
                <a:lnTo>
                  <a:pt x="10800" y="21600"/>
                </a:lnTo>
                <a:lnTo>
                  <a:pt x="7555" y="1404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1066680" y="4952880"/>
            <a:ext cx="38124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124080" y="2057400"/>
            <a:ext cx="2743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se a perio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828800" y="2971800"/>
            <a:ext cx="60958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randa was the lead vocalist in her band it was a punk rock b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905120" y="4724280"/>
            <a:ext cx="6858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randa was the lead vocalist in her band. It was a punk rock b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A948-4194-41CD-8CB8-6D8F65EC44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600" y="456840"/>
            <a:ext cx="639936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 Narrow"/>
              </a:rPr>
              <a:t>Use a Semicolo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514240" y="2362320"/>
            <a:ext cx="6095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523880" y="2362320"/>
            <a:ext cx="381240" cy="53316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1600200" y="411480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590920" y="4114800"/>
            <a:ext cx="6324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;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0C7F-889F-4B0A-93EB-AC180EFA67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426600"/>
            <a:ext cx="761868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Use a comma and a coordinating conjun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(and, but, yet, for, or, nor, so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514240" y="2361960"/>
            <a:ext cx="6095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I Went to the grocery store then I went to the libr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1523880" y="2362320"/>
            <a:ext cx="381240" cy="53316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1600200" y="403848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666880" y="3962520"/>
            <a:ext cx="556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I went to grocery store, and then I went to the libr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A1A4-A80C-42FA-920C-60A89243DA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1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Add a subordinating conjunction or dependent word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14240" y="23619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ia and John like skiing Karen does no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752480" y="2209680"/>
            <a:ext cx="381240" cy="533520"/>
          </a:xfrm>
          <a:custGeom>
            <a:avLst/>
            <a:gdLst>
              <a:gd name="textAreaLeft" fmla="*/ 146880 w 381240"/>
              <a:gd name="textAreaRight" fmla="*/ 234360 w 381240"/>
              <a:gd name="textAreaTop" fmla="*/ 205560 h 533520"/>
              <a:gd name="textAreaBottom" fmla="*/ 327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30" y="8330"/>
                </a:lnTo>
                <a:lnTo>
                  <a:pt x="10800" y="0"/>
                </a:lnTo>
                <a:lnTo>
                  <a:pt x="13270" y="8330"/>
                </a:lnTo>
                <a:lnTo>
                  <a:pt x="21600" y="10800"/>
                </a:lnTo>
                <a:lnTo>
                  <a:pt x="13270" y="13270"/>
                </a:lnTo>
                <a:lnTo>
                  <a:pt x="10800" y="21600"/>
                </a:lnTo>
                <a:lnTo>
                  <a:pt x="8330" y="1327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600200" y="35053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676520" y="472428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 common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subordinating conjunct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fter, although, before, unless, as, because, even though, if, since, until, when, wh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514600" y="3429000"/>
            <a:ext cx="609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hough Maria and John like skiing, Karen does n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vasquez</dc:creator>
  <dc:description/>
  <dc:language>en-US</dc:language>
  <cp:lastModifiedBy>nvasquez</cp:lastModifiedBy>
  <dcterms:modified xsi:type="dcterms:W3CDTF">2008-09-13T05:54:16Z</dcterms:modified>
  <cp:revision>32</cp:revision>
  <dc:subject/>
  <dc:title>PowerPoint Presentation</dc:title>
</cp:coreProperties>
</file>