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B7D1-609A-4869-B982-9F53BAE6E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366A-9045-4E8C-B6D3-5D7BA26B4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F671-3ECE-4F41-8627-D570B563A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7D62-F6D4-4D56-82BC-367520177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6804-D92F-420F-9316-322938305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6230-FAA6-40AA-B06F-043201BCA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5621-7EB4-4B38-854E-B29F45FD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71F-29BE-4EAC-9A96-414313BB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1888-85DC-4477-B7EC-5EED427D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253-0929-472A-81D3-C0373063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B4E-8573-4A0F-A871-AF38EC22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014-9EDF-4794-82EA-F4A34D79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35E-AEEE-4E9A-BB4A-B91DFFD4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CC61-EC9C-4F51-8CD8-AEAF957D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3CF0-26E2-492C-8F34-087C8062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C30-0B2C-4FFB-81F2-7C03D55C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514C-F265-4484-9895-F0C8E8A3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757-DC3B-4E3D-BD8C-6B8FB586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D793-A07D-49A2-8E9D-178CFD5E6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n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s (left sid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First and Last Name &amp;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blue or black ink (except artic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heating!!!!  Use your own idea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ing today automatic ZERO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ademic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 Cle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Draw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ppropriate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gradebook (left sid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mygradebook.com to check gr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word: VasquezSummer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word: ID #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ments listed as “?” are either Extra Credit, Excused, or Not Grad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(on lef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light/Underline Context C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words with cir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mum of 10 words each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cab Pa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tences/Cir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cab Practice Qui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 Work (on lef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accepted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ere absent you may turn in the very NEXT da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g on to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ttp://tenthgradesummerschool.wikispaces.com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get missing assign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4:10:42Z</dcterms:created>
  <dc:creator>nvasquez</dc:creator>
  <dc:description/>
  <dc:language>en-US</dc:language>
  <cp:lastModifiedBy>nvasquez</cp:lastModifiedBy>
  <dcterms:modified xsi:type="dcterms:W3CDTF">2009-06-15T04:11:01Z</dcterms:modified>
  <cp:revision>1</cp:revision>
  <dc:subject/>
  <dc:title>Reminders</dc:title>
</cp:coreProperties>
</file>