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5C64-AC77-4318-8849-E5739DE70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2139-5343-4350-97A1-87F7440B5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3733-A9FA-4507-8888-1DBA1B9E4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489C-8D0A-4E9C-A6AB-D0B48ED58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E05-0C60-4500-8432-51DAE9AF8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36CC-51A1-4324-A2D9-8B7A2B741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2FE-B543-4515-BF95-A0CD1351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21D-8CE4-49C3-8B38-16EEB953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4D8-C059-4606-901E-023059E6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E5D-480E-40F1-8D3A-7F911043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996-8215-4C33-A190-DD151416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F28-340E-47B2-BBDF-30850AFE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4BE-41EF-4309-B9DA-4DF8606B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36C-F4CB-455E-A92D-97191C89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AB7-3C14-4EFB-BFA9-7ACD7B9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198-93B3-4F61-AB56-2FE2A3F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776-233D-44CD-BC9F-C9573405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64F-F2FC-4E1D-8146-812570AD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5D07-A26F-43BC-B365-D4B7AE468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s (left si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First and Last Name &amp;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lue or black ink (except 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heating!!!!  Use your own ide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today automatic ZERO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ademic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Cl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Draw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ppropriat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gradebook (left si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mygradebook.com to check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word: VasquezSummer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word: ID #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s listed as “?” are either Extra Credit, Excused, or Not Gra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(on lef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/Underline Context C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words with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of 10 words each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tences/Cir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 Practice Qui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Work (on lef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ccepted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 absent you may turn in the very NEXT d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 on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ttp://tenthgradesummerschool.wikispaces.com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et missing assig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4:10:42Z</dcterms:created>
  <dc:creator>nvasquez</dc:creator>
  <dc:description/>
  <dc:language>en-US</dc:language>
  <cp:lastModifiedBy>nvasquez</cp:lastModifiedBy>
  <dcterms:modified xsi:type="dcterms:W3CDTF">2009-06-15T04:11:01Z</dcterms:modified>
  <cp:revision>1</cp:revision>
  <dc:subject/>
  <dc:title>Reminders</dc:title>
</cp:coreProperties>
</file>