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5D52-7585-4E1B-89C5-1495C27BB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F2B1-6A8C-4B0A-87B5-88A95DA9D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53A9-78A0-4B75-A158-F2FB2B649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50CE-AEE1-40D3-8A18-CA4E08E1E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CED2-770C-4BD8-96BC-83B4A6364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7996-3B9B-4E01-8674-9912B166A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E1F-9CC5-4169-8A1C-603D3570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EE0-A695-4FC5-B4C4-01BFA224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198-8EDF-4773-A49F-603D4F03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CE9-C150-485A-B767-111BDBDC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73A-8AD4-416D-A362-795E353B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54E-455A-4AF1-A859-651900C0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170-F3B5-4F6C-83E0-D9669226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B38-097A-445D-872D-31EC24AB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9DF-B1B0-408B-A7FB-83EDAEF7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FAC-80F4-4318-9D55-07478D96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DE9-093D-45B5-8F73-648AD1CE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3D2-D2D1-4480-8781-EC15CE39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D493-1B20-49F9-BC43-844F3018B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s (left si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First and Last Name &amp;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lue or black ink (except 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heating!!!!  Use your own ide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today automatic ZERO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ademic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Cl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Draw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ppropriat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gradebook (left si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mygradebook.com to check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word: VasquezSummer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word: ID #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s listed as “?” are either Extra Credit, Excused, or Not Gra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(on lef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/Underline Context C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words with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of 10 words each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tences/Cir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 Practice Qui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Work (on lef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ccepted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 absent you may turn in the very NEXT d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 on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ttp://tenthgradesummerschool.wikispaces.com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et missing assig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4:10:42Z</dcterms:created>
  <dc:creator>nvasquez</dc:creator>
  <dc:description/>
  <dc:language>en-US</dc:language>
  <cp:lastModifiedBy>nvasquez</cp:lastModifiedBy>
  <dcterms:modified xsi:type="dcterms:W3CDTF">2009-06-15T04:11:01Z</dcterms:modified>
  <cp:revision>1</cp:revision>
  <dc:subject/>
  <dc:title>Reminders</dc:title>
</cp:coreProperties>
</file>