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B8A-9C63-4D42-BE7E-5078F1061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0CF-3A6E-43A5-8D39-CDEFD15AE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23F8-1960-4199-8B57-83C0A8866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B227-7AC3-4502-A52D-924570913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76C7-98FE-4BD2-B14C-BA66893B6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5FCF-1474-46F5-9C8C-E5603B6C0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637-D4D5-4D5D-A4B8-2B4FD6CC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736-31EF-4830-A3FE-FE34AC1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A5D-A130-42E5-AF56-D537D67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C4A-023B-4B35-8719-0909A870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C99-10EB-4F5B-B42A-3D2E99A9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45E-9CBB-4762-9198-B4C4935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D61-78E9-4381-B589-67DF05E8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089-85D1-486C-8E1E-A66678A4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A5B-5E9C-464B-BCB7-A3B19898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0AA-4DBA-4A29-8AC6-FAE87DD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050-5F4C-432B-AAE7-7B6FBD7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1FD-EF59-462C-8FE6-522AAD1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794-A39C-4D70-986E-135223680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s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First and Last Name &amp;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lue or black ink (except 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heating!!!!  Use your own id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today automatic ZERO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C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raw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ppropriat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gradebook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ygradebook.com to check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word: VasquezSummer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: ID 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 listed as “?” are either Extra Credit, Excused, or Not Gra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/Underline Context C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words with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of 10 words each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tences/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ractice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Work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ccepted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absent you may turn in the very NEXT 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on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ttp://tenthgradesummerschool.wikispaces.com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missing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4:10:42Z</dcterms:created>
  <dc:creator>nvasquez</dc:creator>
  <dc:description/>
  <dc:language>en-US</dc:language>
  <cp:lastModifiedBy>nvasquez</cp:lastModifiedBy>
  <dcterms:modified xsi:type="dcterms:W3CDTF">2009-06-15T04:11:01Z</dcterms:modified>
  <cp:revision>1</cp:revision>
  <dc:subject/>
  <dc:title>Reminders</dc:title>
</cp:coreProperties>
</file>