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F4F-0EEE-48F9-936F-10BE5ED5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B0C-00A8-436E-9CA7-22D20E22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73A-D51A-403D-A8AC-2C68ABF5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292-29E5-4588-9D69-37763884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0835-9FA9-4DEE-BE86-F919EBF3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4ADC-E34A-4D15-A489-3616C562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6C69-3610-4E7E-B8D1-0E5BC074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E563-FCD4-493D-8264-476B35D0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EDCE-5FBF-43AD-A9BA-D429F3DE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7A85-E91E-42D5-8CDF-665294D8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0BEB-8FDC-4707-AC00-346C425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BBB-FAFE-435A-8246-AAF69C1B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A73E-BC83-4CB7-B445-512113BB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FC30-8CBB-4748-9EA0-D9C7AC5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A0BC-F97A-4984-84CE-DBA00FC9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8ABB-8E41-4F5F-ADBE-32162E8A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FC7-D203-408F-BCE5-E5E011FF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2DC-4A43-4736-BD11-DA7E4026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039-C491-4D47-AE9A-091BC0E7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B79-3964-44C7-9E36-B6E6E7A8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285-345B-4BC6-B0D5-580B584E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CEA-1CEB-4148-9EC7-ABF86755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1FB-E55E-4CF2-A82D-AAF5B4BB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55E-17B7-4511-8D0B-83617C4D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FDC9-A543-4AF7-A1D0-C52A09F5D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8058-650B-4FD8-868A-294D0E3DA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igurative Language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more creative ways to say simple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reshadow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ints at what is to come in the stor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shadow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ney and Rainsford discuss what it must feel like to be hun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10160" y="2308320"/>
            <a:ext cx="3771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figure of speech using exagg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bo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ring English class lasted a thousand year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267080" y="2176560"/>
            <a:ext cx="44960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ymbolis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bject, person, experience that means more than what i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 red rose is a symbol of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 Vasquez symbolizes everything that is FANTASTI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Just Kidd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Moo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otional quality or atmosphere, that a writer creates in a story (by use of language, details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Scary movies have a certain mo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od of Romeo and Juli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me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302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verall message that can be applied to lif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The them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ffir B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at “an education can open doors where none seem to ex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Personific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give something that is non-human human qua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The flowers danced in the w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onflic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827360"/>
            <a:ext cx="8074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uggle between opposite forces (between characters, nature, society, f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onflict: Struggle with outsid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onflict:  Struggle w/in character’s m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Mark Mathabane’s external; conflict is with his father and his internal conflict deals with the issue of going to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e Better Writer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e figurative language whenever you c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figure of speech involving a comparison between unlike things using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 though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imile </a:t>
            </a: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felt so good; it was as though he was on top of the wor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014800" y="1828800"/>
            <a:ext cx="2960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omparison between essentially unlike thing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 word such a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taphor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was a cheetah on the race track;  No  runner could catch up to 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24560" y="1828800"/>
            <a:ext cx="1619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age is language that describes something that can be seen, heard, touched, tasted, or sme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ages in a literary work are referred to, when considered together, as the work’s im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magery 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’s beams shimmered and danced on the ocean’s gentle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ght im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0413" t="6248" r="9421" b="25003"/>
          <a:stretch/>
        </p:blipFill>
        <p:spPr>
          <a:xfrm>
            <a:off x="4967280" y="2057400"/>
            <a:ext cx="2616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ndowment of inanimate objects or abstract concepts with animate or living qualit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sonification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38120" y="182880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yellow leaves played happily with each other in the wi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52520" y="18288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6:03:04Z</dcterms:created>
  <dc:creator>ECVHS GUHSD</dc:creator>
  <dc:description/>
  <dc:language>en-US</dc:language>
  <cp:lastModifiedBy>Nvasquez</cp:lastModifiedBy>
  <dcterms:modified xsi:type="dcterms:W3CDTF">2009-05-20T15:56:39Z</dcterms:modified>
  <cp:revision>13</cp:revision>
  <dc:subject/>
  <dc:title>Figurative Language</dc:title>
</cp:coreProperties>
</file>