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5A2-1DF7-4F92-A9CB-34E662CE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146-4189-4751-A446-B2DF9C6F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E25-3360-4E5D-A862-C0E02D69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CE9-B68C-43BF-B875-0E73689C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2E03-E47C-4E87-BCC1-BCB9E870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1AF3-8ED0-4BEA-A720-C4CAEA4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34C-C990-48E9-BE77-BB1B758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05D0-4653-4838-9EB3-0DCC01D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5130-9076-487F-BE7C-E85CE6B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A3B1-9560-4558-A7D5-7657FD48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FA9-777B-4FD5-8673-09D72922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37E-6EAC-4AEA-895D-923C4C9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E060-3563-4C78-99F7-AC7BB5B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B306-D2E5-4F2C-BC79-80DFDE4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0BDD-46F3-45C3-A5FD-AC6C9645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9F75-2FEC-4C08-81DF-BEC7275B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747C-B1D4-4856-8491-497EECD3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0F7-4E11-47F9-BDF7-7287CBB6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5C5-51FC-4B17-900C-90C0582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103-439B-4E2D-B683-F54EB5F3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84C-501E-4009-980F-B6145034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B43-8788-4658-9499-2E1F1BD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FCC-09EA-4DD8-B56F-4ACF9A9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95D-1759-4C9C-804F-E9CA9A5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FCA-F514-47E8-9C61-69E89552A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5788-27D7-49F6-833F-29203DC91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igurative Language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more creative ways to say simple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reshado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nts at what is to come in the stor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hadow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ney and Rainsford discuss what it must feel like to be hun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10160" y="2308320"/>
            <a:ext cx="3771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using exagg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ring English class lasted a thousand yea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67080" y="2176560"/>
            <a:ext cx="4496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ymbo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bject, person, experience that means more than what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red rose is a symbol of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 Vasquez symbolizes everything that is FANTASTI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Just Kid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o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otional quality or atmosphere, that a writer creates in a story (by use of language, detail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cary movies have a certain m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od of Romeo and Jul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m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30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message that can be applied to lif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the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ffir B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“an education can open doors where none seem to ex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ersonific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give something that is non-human human qu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flowers danced in the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nflic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074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ggle between opposite forces (between characters, nature, society, f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nflict: Struggle with outsid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flict:  Struggle w/in character’s m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Mark Mathabane’s external; conflict is with his father and his internal conflict deals with the issue of going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e Better Writ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 figurative language whenever you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involving a comparison between unlike things using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 thoug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 </a:t>
            </a: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felt so good; it was as though he was on top of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14800" y="1828800"/>
            <a:ext cx="296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mparison between essentially unlike thing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 word such 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was a cheetah on the race track;  No  runner could catch up to 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24560" y="1828800"/>
            <a:ext cx="161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age is language that describes something that can be seen, heard, touched, tasted, or sme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ages in a literary work are referred to, when considered together, as the work’s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agery 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’s beams shimmered and danced on the ocean’s gentle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ght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0413" t="6248" r="9421" b="25003"/>
          <a:stretch/>
        </p:blipFill>
        <p:spPr>
          <a:xfrm>
            <a:off x="4967280" y="2057400"/>
            <a:ext cx="2616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ndowment of inanimate objects or abstract concepts with animate or living qualit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ification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38120" y="18288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ellow leaves played happily with each other in the wi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52520" y="18288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03:04Z</dcterms:created>
  <dc:creator>ECVHS GUHSD</dc:creator>
  <dc:description/>
  <dc:language>en-US</dc:language>
  <cp:lastModifiedBy>Nvasquez</cp:lastModifiedBy>
  <dcterms:modified xsi:type="dcterms:W3CDTF">2009-05-20T15:56:39Z</dcterms:modified>
  <cp:revision>13</cp:revision>
  <dc:subject/>
  <dc:title>Figurative Language</dc:title>
</cp:coreProperties>
</file>