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7F-3DC0-4BE8-BE71-021A6BB9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C1D-FC9A-4AC7-9C20-8A14FA39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1E1-983D-4CA2-BEAA-48C3D815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C87-1A32-42F1-9EC3-A39ED10D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301-8085-4E25-B90C-4FF00553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8882-C74B-4F84-9639-89D0C7B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D6E2-A7C8-49D5-B1F6-39738B1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697-4BF8-4DEB-9601-25B6A29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669A-AE69-4D6A-B7A4-4B337EB7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FA72-5ECA-4F96-B147-D0B13EC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8ADD-6251-4905-B75D-B0C12A5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826-3F9D-4449-95C9-256C1B8A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C621-3CFA-453D-8216-1961C26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A42-8E51-493C-85D8-C56B0B9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28F-F4E9-4946-9DB1-A32FA33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41F7-F016-47F3-B94F-0F12AFEA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6FE-23B9-48E2-8050-E0A55A3F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D63-6730-4EF4-9AC1-277D2BFA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75D-D701-4F14-9B4D-0D05A6A0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B44-4D3B-4F2E-BCBF-5719F3A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D26-0EF9-48EA-A4BE-F2FA6E5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0E6-9206-46F0-A8C3-F7E453D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0F5-E07D-41F0-BF06-3A1EFEC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2F2-8F34-41B1-8ECF-4EDE675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B33-389A-4352-930C-840D9DB62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8E3-1298-412E-BCD5-BE347681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igurative Language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more creative ways to say simpl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nts at what is to come in the sto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ney and Rainsford discuss what it must feel like to be hu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10160" y="2308320"/>
            <a:ext cx="3771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using exagg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ring English class lasted a thousand yea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2176560"/>
            <a:ext cx="4496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ymbo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, person, experience that means more than what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red rose is a symbol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 Vasquez symbolizes everything that is FANTASTI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Just Kid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otional quality or atmosphere, that a writer creates in a story (by use of language, detail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cary movies have a certain m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 of Romeo and Jul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m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30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message that can be applied to lif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the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ffir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“an education can open doors where none seem to ex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ersonific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give something that is non-human human 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flowers danced in the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flic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ggle between opposite forces (between characters, nature, society, f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nflict: Struggle with outsid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flict:  Struggle w/in character’s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Mark Mathabane’s external; conflict is with his father and his internal conflict deals with the issue of going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 Better Writ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 figurative language whenever you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involving a comparison between unlike things using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 thoug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 </a:t>
            </a: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felt so good; it was as though he was on top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14800" y="1828800"/>
            <a:ext cx="296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mparison between essentially unlike thing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word such 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was a cheetah on the race track;  No  runner could catch up to 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24560" y="1828800"/>
            <a:ext cx="161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agery 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ht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0413" t="6248" r="9421" b="25003"/>
          <a:stretch/>
        </p:blipFill>
        <p:spPr>
          <a:xfrm>
            <a:off x="4967280" y="2057400"/>
            <a:ext cx="2616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ndowment of inanimate objects or abstract concepts with animate or living qualit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ellow leaves played happily with each other in the wi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828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03:04Z</dcterms:created>
  <dc:creator>ECVHS GUHSD</dc:creator>
  <dc:description/>
  <dc:language>en-US</dc:language>
  <cp:lastModifiedBy>Nvasquez</cp:lastModifiedBy>
  <dcterms:modified xsi:type="dcterms:W3CDTF">2009-05-20T15:56:39Z</dcterms:modified>
  <cp:revision>13</cp:revision>
  <dc:subject/>
  <dc:title>Figurative Language</dc:title>
</cp:coreProperties>
</file>