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3F2-BACE-4B51-9C64-1A21595F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5A4-8AF4-47F4-AC41-61404729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DCD-BB7A-4FCC-A8AE-A1823A79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350-A7D7-4E08-8991-906BAD96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D5A-4C3C-4978-9C17-50FB065F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28CE-F778-4851-BA85-9F0240E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2D5-96E8-4526-A9E8-D6FE559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B737-2A93-4E83-99FB-21DFA29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C7E0-6A6D-4F6F-8924-6E0E665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58A5-98CE-430E-8E17-7153F75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D3B6-73D1-4638-9606-CAACD2D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70E-0B55-4432-9493-0FDA9C3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4EE5-96B6-4976-92F0-52F0479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3DBF-FDDF-46B6-8BB3-72CC2941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409F-B22C-4304-A2DF-C6034AF9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07E-5CBF-43C0-92F0-7C488C65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9526-B435-4BD7-BDE2-2345001A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18C-F7C9-4B40-A6EF-30662FC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FA99-6F62-46B6-B044-9E684CC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CD5-9A6F-4BF9-8B8D-F84884EE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CD9-A147-435B-A0BC-C51924D8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A9F-CD0D-446C-BA17-7217541C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D24-0A34-497D-A111-8FBCBC9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219-1914-41C7-B75C-0FEB8616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3B8E-BCE7-4D2F-9594-B42436A54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B8F9-3A7C-47CB-BBFE-6EC5AA45C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igurative Language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more creative ways to say simple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reshado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nts at what is to come in the stor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hadow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ney and Rainsford discuss what it must feel like to be hun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10160" y="2308320"/>
            <a:ext cx="3771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using exagg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ring English class lasted a thousand yea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67080" y="2176560"/>
            <a:ext cx="4496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ymbo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bject, person, experience that means more than what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red rose is a symbol of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 Vasquez symbolizes everything that is FANTASTI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Just Kid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o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otional quality or atmosphere, that a writer creates in a story (by use of language, detail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cary movies have a certain m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od of Romeo and Jul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m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30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message that can be applied to lif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the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ffir B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“an education can open doors where none seem to ex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ersonific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give something that is non-human human qu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flowers danced in the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nflic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074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ggle between opposite forces (between characters, nature, society, f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nflict: Struggle with outsid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flict:  Struggle w/in character’s m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Mark Mathabane’s external; conflict is with his father and his internal conflict deals with the issue of going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e Better Writ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 figurative language whenever you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involving a comparison between unlike things using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 thoug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 </a:t>
            </a: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felt so good; it was as though he was on top of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14800" y="1828800"/>
            <a:ext cx="296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mparison between essentially unlike thing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 word such 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was a cheetah on the race track;  No  runner could catch up to 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24560" y="1828800"/>
            <a:ext cx="161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age is language that describes something that can be seen, heard, touched, tasted, or sme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ages in a literary work are referred to, when considered together, as the work’s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agery 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’s beams shimmered and danced on the ocean’s gentle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ght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0413" t="6248" r="9421" b="25003"/>
          <a:stretch/>
        </p:blipFill>
        <p:spPr>
          <a:xfrm>
            <a:off x="4967280" y="2057400"/>
            <a:ext cx="2616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ndowment of inanimate objects or abstract concepts with animate or living qualit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ification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38120" y="18288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ellow leaves played happily with each other in the wi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52520" y="18288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03:04Z</dcterms:created>
  <dc:creator>ECVHS GUHSD</dc:creator>
  <dc:description/>
  <dc:language>en-US</dc:language>
  <cp:lastModifiedBy>Nvasquez</cp:lastModifiedBy>
  <dcterms:modified xsi:type="dcterms:W3CDTF">2009-05-20T15:56:39Z</dcterms:modified>
  <cp:revision>13</cp:revision>
  <dc:subject/>
  <dc:title>Figurative Language</dc:title>
</cp:coreProperties>
</file>