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4866-1B1E-45A5-AD6F-E03EC89C3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3702-20E8-4C64-88EB-E0A9852B818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D69D-71EB-4889-A972-97AC84E9A3D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342C-51EF-41DD-AC20-9809C834BA6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4C19-3BF2-4F87-970F-E9EF7F9F519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377A-18E7-450D-A3E5-E58F377C8D1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CEA5-AA04-4FB9-956B-8276479AA9B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BB45-2CC1-4C96-9B06-2093C093BEA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1D0D-0131-40FA-B92D-CEDF2F09FC1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5FCC-B999-49A9-B352-DE748F64401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7717-79FB-481E-A3EE-43B455F5D8E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8D0E-1E11-4E33-9FBC-49BE558F8FE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6A04-6FED-4F84-8FBC-127917FE56C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9358-3225-44E0-B663-8C2D87963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B76A-6198-48C1-8F3E-AFF4DEF5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CC40-F385-4903-B0CE-1FF1F3C3D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1917-D387-4EB1-9681-5EED54905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4E18-1723-4279-BE18-8D4F6D021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A368-7C4D-492B-9608-5E2D24E6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11D9F-F3FF-4193-A36E-A1997973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94AF-1C2F-4932-B751-0EC46E7A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3108-F11A-47F2-AA59-96FE3473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2D9D-A9DA-4E6B-AA9C-160DC33A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1180-9C16-4491-8580-4BF21437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F3C5-1F0D-4712-B42A-9E64008C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6803C-96D9-4F52-8F01-1A60DE17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0170-14CA-484F-BC33-D2A4D5AF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758F-25D0-49E5-8CE1-C065263E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E833-0EE4-482D-BE87-58B356693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78455-510B-4D06-A76C-CA6745731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090E-2656-4090-9379-600E2F5E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6585-B069-4BE4-AD04-7684D1C2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D0DF-7529-4B54-892E-23B80601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0226-8DAD-4E7B-910C-87AF5FF6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A996-94D3-4E2E-86F6-7BFB1DCF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6635-9D22-4256-ABE5-89F8DE75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80D2-337B-4A31-9431-B0FB7A4D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9508-2D43-4540-B542-BF0429142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AFBD-A36D-40D6-9247-9B115981D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2514240"/>
            <a:ext cx="6324480" cy="16765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0000"/>
                </a:solidFill>
                <a:latin typeface="Tempus Sans ITC"/>
              </a:rPr>
              <a:t>Elements of a </a:t>
            </a:r>
            <a:br>
              <a:rPr sz="5500"/>
            </a:br>
            <a:r>
              <a:rPr b="1" lang="en-US" sz="5500" spc="-1" strike="noStrike">
                <a:solidFill>
                  <a:srgbClr val="ff0000"/>
                </a:solidFill>
                <a:latin typeface="Tempus Sans ITC"/>
              </a:rPr>
              <a:t>  Short Story</a:t>
            </a:r>
            <a:endParaRPr b="0" lang="en-US" sz="5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       </a:t>
            </a: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PLOT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4" name="Diagram 6"/>
          <p:cNvGrpSpPr/>
          <p:nvPr/>
        </p:nvGrpSpPr>
        <p:grpSpPr>
          <a:xfrm>
            <a:off x="2948040" y="2571120"/>
            <a:ext cx="3476520" cy="3011760"/>
            <a:chOff x="2948040" y="2571120"/>
            <a:chExt cx="3476520" cy="3011760"/>
          </a:xfrm>
        </p:grpSpPr>
        <p:sp>
          <p:nvSpPr>
            <p:cNvPr id="185" name="_s1028"/>
            <p:cNvSpPr/>
            <p:nvPr/>
          </p:nvSpPr>
          <p:spPr>
            <a:xfrm flipV="1">
              <a:off x="3816360" y="2570760"/>
              <a:ext cx="1739880" cy="1505160"/>
            </a:xfrm>
            <a:custGeom>
              <a:avLst/>
              <a:gdLst>
                <a:gd name="textAreaLeft" fmla="*/ 624240 w 1739880"/>
                <a:gd name="textAreaRight" fmla="*/ 1115640 w 1739880"/>
                <a:gd name="textAreaTop" fmla="*/ 540000 h 1505160"/>
                <a:gd name="textAreaBottom" fmla="*/ 965160 h 150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ef6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_s1029"/>
            <p:cNvSpPr/>
            <p:nvPr/>
          </p:nvSpPr>
          <p:spPr>
            <a:xfrm flipV="1">
              <a:off x="2948040" y="4075920"/>
              <a:ext cx="3476520" cy="1506600"/>
            </a:xfrm>
            <a:custGeom>
              <a:avLst/>
              <a:gdLst>
                <a:gd name="textAreaLeft" fmla="*/ 764280 w 3476520"/>
                <a:gd name="textAreaRight" fmla="*/ 2712240 w 3476520"/>
                <a:gd name="textAreaTop" fmla="*/ 331200 h 1506600"/>
                <a:gd name="textAreaBottom" fmla="*/ 1175400 h 150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ef6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7" name="Rectangle 10"/>
          <p:cNvSpPr/>
          <p:nvPr/>
        </p:nvSpPr>
        <p:spPr>
          <a:xfrm flipH="1" rot="18301200">
            <a:off x="2094840" y="3141360"/>
            <a:ext cx="243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Rising A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11"/>
          <p:cNvSpPr/>
          <p:nvPr/>
        </p:nvSpPr>
        <p:spPr>
          <a:xfrm flipV="1" rot="14514000">
            <a:off x="4473000" y="3830040"/>
            <a:ext cx="32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Falling </a:t>
            </a: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Line 12"/>
          <p:cNvSpPr/>
          <p:nvPr/>
        </p:nvSpPr>
        <p:spPr>
          <a:xfrm flipV="1">
            <a:off x="2057400" y="2666880"/>
            <a:ext cx="175248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Line 13"/>
          <p:cNvSpPr/>
          <p:nvPr/>
        </p:nvSpPr>
        <p:spPr>
          <a:xfrm>
            <a:off x="5715000" y="2819520"/>
            <a:ext cx="114300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6441120" y="5181480"/>
            <a:ext cx="18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Resolu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15"/>
          <p:cNvSpPr/>
          <p:nvPr/>
        </p:nvSpPr>
        <p:spPr>
          <a:xfrm>
            <a:off x="4038480" y="2057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Clima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16"/>
          <p:cNvSpPr/>
          <p:nvPr/>
        </p:nvSpPr>
        <p:spPr>
          <a:xfrm>
            <a:off x="914400" y="51055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Exposi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3908520" y="3954600"/>
            <a:ext cx="1501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18"/>
          <p:cNvSpPr/>
          <p:nvPr/>
        </p:nvSpPr>
        <p:spPr>
          <a:xfrm>
            <a:off x="388476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Confli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empus Sans ITC"/>
              </a:rPr>
              <a:t>   </a:t>
            </a:r>
            <a:r>
              <a:rPr b="1" lang="en-US" sz="6000" spc="-1" strike="noStrike" u="sng">
                <a:solidFill>
                  <a:srgbClr val="000000"/>
                </a:solidFill>
                <a:uFillTx/>
                <a:latin typeface="Tempus Sans ITC"/>
              </a:rPr>
              <a:t>CONCLUSION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72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br>
              <a:rPr sz="1600"/>
            </a:b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Now that we have identified and defined the elements of a short story, let us use the elements to analyze a familiar fairytal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6" descr="j0283631"/>
          <p:cNvPicPr/>
          <p:nvPr/>
        </p:nvPicPr>
        <p:blipFill>
          <a:blip r:embed="rId1"/>
          <a:stretch/>
        </p:blipFill>
        <p:spPr>
          <a:xfrm>
            <a:off x="5019840" y="1828800"/>
            <a:ext cx="29811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800240" y="914400"/>
            <a:ext cx="3886200" cy="838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empus Sans ITC"/>
              </a:rPr>
              <a:t>Bibliography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6840" y="22096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Dinneen, K. Elements of the Short Story. Retrieved Jun.  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        19, 2003, from Yale-New Haven Teachers Institut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empus Sans ITC"/>
              </a:rPr>
              <a:t>             </a:t>
            </a:r>
            <a:r>
              <a:rPr b="0" lang="en-US" sz="1500" spc="-1" strike="noStrike">
                <a:solidFill>
                  <a:srgbClr val="000000"/>
                </a:solidFill>
                <a:latin typeface="Tempus Sans ITC"/>
              </a:rPr>
              <a:t>http://www.yale.edu/ynhti/curriculum/units/1983/3/83.03.09.x.html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1523880" y="3276720"/>
            <a:ext cx="6629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Five Elements of a Story. Retrieved Jun. 19, 2003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Tempus Sans ITC"/>
              </a:rPr>
              <a:t>http://www.teachervision.com/lesson-plans/lesson-2277.htm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752480" y="4267080"/>
            <a:ext cx="563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1600200" y="4114800"/>
            <a:ext cx="70102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Guevin, D. Short Story Elements. Retrieved Jun. 19, 2003,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Tempus Sans ITC"/>
              </a:rPr>
              <a:t>http://www.uvm.edu/~dguevin/Elements.html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empus Sans ITC"/>
              </a:rPr>
              <a:t>OBJECTIVE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1026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empus Sans ITC"/>
              </a:rPr>
              <a:t>Identify elements of a short story</a:t>
            </a:r>
            <a:endParaRPr b="0" lang="en-US" sz="41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1026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empus Sans ITC"/>
              </a:rPr>
              <a:t>Define elements of a short story</a:t>
            </a:r>
            <a:endParaRPr b="0" lang="en-US" sz="41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1026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empus Sans ITC"/>
              </a:rPr>
              <a:t>Demonstrate mastery of short story elements</a:t>
            </a:r>
            <a:endParaRPr b="0" lang="en-US" sz="4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   </a:t>
            </a:r>
            <a:r>
              <a:rPr b="1" lang="en-US" sz="6000" spc="-1" strike="noStrike" u="sng">
                <a:solidFill>
                  <a:srgbClr val="000000"/>
                </a:solidFill>
                <a:uFillTx/>
                <a:latin typeface="Tempus Sans ITC"/>
              </a:rPr>
              <a:t>OVERVIEW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empus Sans ITC"/>
              </a:rPr>
              <a:t>Short stories often contain structural and character elements that should be familiar to you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empus Sans ITC"/>
              </a:rPr>
              <a:t>These elements can be used as guides to help  you think about the actions, themes, and contexts of the story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3772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Them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Sett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Charact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Point of view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Characteriz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85840" y="1371240"/>
            <a:ext cx="525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Plo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- exposition state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- rising ac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- conflic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           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- climax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             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- falling ac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- resolu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WordArt 8"/>
          <p:cNvSpPr txBox="1"/>
          <p:nvPr/>
        </p:nvSpPr>
        <p:spPr>
          <a:xfrm>
            <a:off x="914400" y="457200"/>
            <a:ext cx="6553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lements of a Short Stor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25909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THE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18284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The main idea of a literary work, usually expressed as a generalization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1905120" y="3657600"/>
            <a:ext cx="3352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SET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1143000" y="434340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2209680" y="4572000"/>
            <a:ext cx="632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The time and place in which a work of literature happen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44197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The people (or actors) in the story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1752480" y="3124080"/>
            <a:ext cx="518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POINT OF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ectangle 5"/>
          <p:cNvSpPr/>
          <p:nvPr/>
        </p:nvSpPr>
        <p:spPr>
          <a:xfrm flipV="1" rot="10800000">
            <a:off x="1827000" y="4113720"/>
            <a:ext cx="632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The story teller from whose point of view the story is being told, the narrato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CHARACTER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5257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The description of  the personalities of  the characters in the story and the way in which an author reveals their personalitie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8" descr="j0216724"/>
          <p:cNvPicPr/>
          <p:nvPr/>
        </p:nvPicPr>
        <p:blipFill>
          <a:blip r:embed="rId1"/>
          <a:stretch/>
        </p:blipFill>
        <p:spPr>
          <a:xfrm>
            <a:off x="6172200" y="1981080"/>
            <a:ext cx="2440080" cy="327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8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870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PLO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The sequence or order of events in a story. The plot include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empus Sans ITC"/>
              </a:rPr>
              <a:t>Exposition Statement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 - The part of the plot that tells how the story begin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empus Sans ITC"/>
              </a:rPr>
              <a:t>Rising Action 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- The action in the story leading up to the climax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empus Sans ITC"/>
              </a:rPr>
              <a:t>Conflict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Struggles or problems between opposing forc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98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More PLO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empus Sans ITC"/>
              </a:rPr>
              <a:t>Climax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The point of crisis in the plot. It may be the reader’s point of highest interest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empus Sans ITC"/>
              </a:rPr>
              <a:t>Falling action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 - The action in the story after the climax is reveal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empus Sans ITC"/>
              </a:rPr>
              <a:t>Resolution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The part of the plot that reveals the final outcom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6700"/>
                            </p:stCondLst>
                            <p:childTnLst>
                              <p:par>
                                <p:cTn id="25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8T17:49:08Z</dcterms:created>
  <dc:creator>HIGHLANDS ELEMENTARY SCHOOL</dc:creator>
  <dc:description/>
  <dc:language>en-US</dc:language>
  <cp:lastModifiedBy>nvasquez</cp:lastModifiedBy>
  <dcterms:modified xsi:type="dcterms:W3CDTF">2009-06-09T01:17:23Z</dcterms:modified>
  <cp:revision>24</cp:revision>
  <dc:subject/>
  <dc:title>Elements of a  Short Story</dc:title>
</cp:coreProperties>
</file>