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89C7-1D1A-4190-9E7E-9D540997C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2340-F6D9-42AA-A315-55AA9EF451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FB3A-5235-48D5-A009-F53DDDD27F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54DA-76CE-4896-8543-FBE4AA219F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756D-77E1-4102-BBC3-0E268C2E5F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954C-53A2-411B-AD4E-3D46D2AE8B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D730-A878-47F8-939E-B38877ABA0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6DAA-AADD-453A-81E4-D1DEF85D0F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3D8A-CB7D-454D-B2DC-6078D095EC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C8A5-4853-4DF2-B71A-34AF639C4C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C2CF-2E24-4F87-A55F-783DE1813F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710C-1900-4463-BDC4-474421C80A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5E27-842E-4F05-A6A4-74BAC26A57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D83-E5BE-4C97-AED1-9805A450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40B-7FCE-4096-951D-2136D5FD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A64-CD1F-460E-87C0-7708BF3B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DF5-36A5-47E7-91B0-6BF0115D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6098-27E8-409D-B2A4-6F34DFDD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FEE6-DC35-4612-9325-A17ED581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FC9E-90E0-47B5-B597-DE527FFF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1A77-328C-473E-B5F8-5AB502DD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51FE-AAE2-4F6F-B6FE-0294C3F2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8500-1D1A-4AB8-8714-3BEBE113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A4B1-7DA7-478C-AD2F-04DEE3D7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63C-C6E0-49FD-93DF-40A2FDF1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F59C-5208-49DD-943C-79106B44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0E61-ED73-4253-8A20-738E98F9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FD7A-6F23-4A0A-B8A8-CAE5D9FA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CB05-1A25-4A27-9A2C-0A185BB9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BE28-2743-4378-85D4-028EA30D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506-7160-48BC-9BA7-68173D94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D04-91CF-4B7D-A227-BB5EE14F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10B-7045-403E-B83E-11F9BF46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5CC-7B89-47CA-B9EC-8A866371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D7A-26CA-4CCE-9F85-AB610156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453-C55B-4F08-9D2E-A54924CB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8BD-33E9-4A77-AA12-D50E0ED5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BD78-795B-41D8-A00C-AF16C0218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2983-4AC6-476F-B1C2-608A79C73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514240"/>
            <a:ext cx="6324480" cy="1676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Tempus Sans ITC"/>
              </a:rPr>
              <a:t>Elements of a </a:t>
            </a:r>
            <a:br>
              <a:rPr sz="5500"/>
            </a:br>
            <a:r>
              <a:rPr b="1" lang="en-US" sz="5500" spc="-1" strike="noStrike">
                <a:solidFill>
                  <a:srgbClr val="ff0000"/>
                </a:solidFill>
                <a:latin typeface="Tempus Sans ITC"/>
              </a:rPr>
              <a:t>  Short Story</a:t>
            </a: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LOT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Diagram 6"/>
          <p:cNvGrpSpPr/>
          <p:nvPr/>
        </p:nvGrpSpPr>
        <p:grpSpPr>
          <a:xfrm>
            <a:off x="2948040" y="2571120"/>
            <a:ext cx="3476520" cy="3011760"/>
            <a:chOff x="2948040" y="2571120"/>
            <a:chExt cx="3476520" cy="3011760"/>
          </a:xfrm>
        </p:grpSpPr>
        <p:sp>
          <p:nvSpPr>
            <p:cNvPr id="185" name="_s1028"/>
            <p:cNvSpPr/>
            <p:nvPr/>
          </p:nvSpPr>
          <p:spPr>
            <a:xfrm flipV="1">
              <a:off x="3816360" y="2570760"/>
              <a:ext cx="1739880" cy="1505160"/>
            </a:xfrm>
            <a:custGeom>
              <a:avLst/>
              <a:gdLst>
                <a:gd name="textAreaLeft" fmla="*/ 624240 w 1739880"/>
                <a:gd name="textAreaRight" fmla="*/ 1115640 w 1739880"/>
                <a:gd name="textAreaTop" fmla="*/ 540000 h 1505160"/>
                <a:gd name="textAreaBottom" fmla="*/ 965160 h 15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e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_s1029"/>
            <p:cNvSpPr/>
            <p:nvPr/>
          </p:nvSpPr>
          <p:spPr>
            <a:xfrm flipV="1">
              <a:off x="2948040" y="4075920"/>
              <a:ext cx="3476520" cy="1506600"/>
            </a:xfrm>
            <a:custGeom>
              <a:avLst/>
              <a:gdLst>
                <a:gd name="textAreaLeft" fmla="*/ 764280 w 3476520"/>
                <a:gd name="textAreaRight" fmla="*/ 2712240 w 3476520"/>
                <a:gd name="textAreaTop" fmla="*/ 331200 h 1506600"/>
                <a:gd name="textAreaBottom" fmla="*/ 1175400 h 15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e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 flipH="1" rot="18301200">
            <a:off x="2094840" y="3141360"/>
            <a:ext cx="243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ising 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1"/>
          <p:cNvSpPr/>
          <p:nvPr/>
        </p:nvSpPr>
        <p:spPr>
          <a:xfrm flipV="1" rot="14514000">
            <a:off x="4473000" y="383004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Falling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2057400" y="2666880"/>
            <a:ext cx="17524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5715000" y="2819520"/>
            <a:ext cx="114300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441120" y="51814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403848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lim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914400" y="51055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Expos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908520" y="3954600"/>
            <a:ext cx="1501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388476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CONCLUS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Now that we have identified and defined the elements of a short story, let us use the elements to analyze a familiar fairytal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6" descr="j0283631"/>
          <p:cNvPicPr/>
          <p:nvPr/>
        </p:nvPicPr>
        <p:blipFill>
          <a:blip r:embed="rId1"/>
          <a:stretch/>
        </p:blipFill>
        <p:spPr>
          <a:xfrm>
            <a:off x="5019840" y="1828800"/>
            <a:ext cx="2981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800240" y="914400"/>
            <a:ext cx="38862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empus Sans ITC"/>
              </a:rPr>
              <a:t>Bibliograph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6840" y="22096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Dinneen, K. Elements of the Short Story. Retrieved Jun.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       19, 2003, from Yale-New Haven Teachers Institu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     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yale.edu/ynhti/curriculum/units/1983/3/83.03.09.x.html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523880" y="3276720"/>
            <a:ext cx="6629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Five Elements of a Story. Retrieved Jun. 19, 2003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teachervision.com/lesson-plans/lesson-2277.htm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752480" y="42670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600200" y="4114800"/>
            <a:ext cx="7010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Guevin, D. Short Story Elements. Retrieved Jun. 19, 2003,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uvm.edu/~dguevin/Elements.html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Identify elements of a short story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Define elements of a short story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Demonstrate mastery of short story elements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OVERVIEW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Short stories often contain structural and character elements that should be familiar to you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These elements can be used as guides to help  you think about the actions, themes, and contexts of the stor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3772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Set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Charac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Point of vi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Characte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85840" y="13712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Plo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exposition state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rising a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conflic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clim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falling a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resolu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914400" y="457200"/>
            <a:ext cx="6553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ements of a Short Sto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2590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8284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main idea of a literary work, usually expressed as a generalization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905120" y="36576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143000" y="43434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209680" y="457200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time and place in which a work of literature happen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people (or actors) in the story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752480" y="31240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OINT OF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5"/>
          <p:cNvSpPr/>
          <p:nvPr/>
        </p:nvSpPr>
        <p:spPr>
          <a:xfrm flipV="1" rot="10800000">
            <a:off x="1827000" y="4113720"/>
            <a:ext cx="632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story teller from whose point of view the story is being told, the narrat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HARACTER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description of  the personalities of  the characters in the story and the way in which an author reveals their personaliti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8" descr="j0216724"/>
          <p:cNvPicPr/>
          <p:nvPr/>
        </p:nvPicPr>
        <p:blipFill>
          <a:blip r:embed="rId1"/>
          <a:stretch/>
        </p:blipFill>
        <p:spPr>
          <a:xfrm>
            <a:off x="6172200" y="1981080"/>
            <a:ext cx="2440080" cy="32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sequence or order of events in a story. The plot includ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Exposition Statement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- The part of the plot that tells how the story begi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Rising Action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- The action in the story leading up to the clima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Conflict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truggles or problems between opposing for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More P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Climax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point of crisis in the plot. It may be the reader’s point of highest interes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Falling action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- The action in the story after the climax is reveal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Resolution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part of the plot that reveals the final outcom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700"/>
                            </p:stCondLst>
                            <p:childTnLst>
                              <p:par>
                                <p:cTn id="2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7:49:08Z</dcterms:created>
  <dc:creator>HIGHLANDS ELEMENTARY SCHOOL</dc:creator>
  <dc:description/>
  <dc:language>en-US</dc:language>
  <cp:lastModifiedBy>nvasquez</cp:lastModifiedBy>
  <dcterms:modified xsi:type="dcterms:W3CDTF">2009-06-09T01:17:23Z</dcterms:modified>
  <cp:revision>24</cp:revision>
  <dc:subject/>
  <dc:title>Elements of a  Short Story</dc:title>
</cp:coreProperties>
</file>