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680B-6EDA-40D2-9408-80844E03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F119-C339-4832-A55A-DBC4EC644B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8F1-58BF-4830-9D2D-F56AE02889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EB48-97F6-45A2-9F4D-B9DCE2DD9D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BDC1-B948-4A37-BC0E-CFFBD42150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6360-275F-44E1-A54A-A1D0D0046B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0B0-B039-4ED0-994C-CA3A45CBED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5B0-03D1-41DB-9AC6-F11886BFB5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813-4FA5-472F-ADD0-8DDCE5ACB5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647-F17B-48C4-B01C-4A4DE64EF7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0A99-2A81-48F7-BC01-1AC4E0FD06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04A-CCE6-4CB0-B165-B418507726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516A-A496-4841-9A2A-7488ADAD88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C19-B4FC-4D6D-BEA7-F1ED24CF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B6C-9614-4E30-A55B-DB14630E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C03-F053-41C1-AFDF-C199B973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B61-B2C2-4991-97C6-13200A34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00C1-0664-449C-BA71-9A950F92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28C7-FE05-4425-AD3F-CA2BFFA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409-DECB-42B3-AD94-93BA163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737-F6FD-47CF-B872-23FAEFD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3CC5-23A8-41B5-86B1-A15C4C7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404E-CC2B-4233-8F4D-29297019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C6AA-6306-43DA-A7D3-29357FD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4DD-8C73-4DB4-AEB2-8D569FD0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8721-A4A4-45D0-B7A0-752C7AD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C75-694C-44D5-9A4E-C8F132A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14F6-CF2B-4638-AA51-9DAC91BB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BC19-313B-4031-BC24-B0E1EDAD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481-81E7-4BD9-A41A-F45AC5A0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8B3-2C4E-445F-9387-7CAD36C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76F-0C15-4B8B-9C5C-7D418B35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D10-BE0A-4B23-BEF6-5B1D76A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48F-13A2-45A3-BFCB-246A6E7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405-3F69-46D2-BD9E-015532B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31F-CDCD-4B34-AB18-8C056D4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996-D189-4480-91E4-3E259B6B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DD5E-7093-4E87-B799-4EDCFB9AB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AA51-5D39-4C11-B693-DBE453AC2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514240"/>
            <a:ext cx="6324480" cy="1676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Elements of a </a:t>
            </a:r>
            <a:br>
              <a:rPr sz="5500"/>
            </a:br>
            <a:r>
              <a:rPr b="1" lang="en-US" sz="5500" spc="-1" strike="noStrike">
                <a:solidFill>
                  <a:srgbClr val="ff0000"/>
                </a:solidFill>
                <a:latin typeface="Tempus Sans ITC"/>
              </a:rPr>
              <a:t>  Short Story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948040" y="2571120"/>
            <a:ext cx="3476520" cy="3011760"/>
            <a:chOff x="2948040" y="2571120"/>
            <a:chExt cx="3476520" cy="3011760"/>
          </a:xfrm>
        </p:grpSpPr>
        <p:sp>
          <p:nvSpPr>
            <p:cNvPr id="185" name="_s1028"/>
            <p:cNvSpPr/>
            <p:nvPr/>
          </p:nvSpPr>
          <p:spPr>
            <a:xfrm flipV="1">
              <a:off x="3816360" y="2570760"/>
              <a:ext cx="1739880" cy="1505160"/>
            </a:xfrm>
            <a:custGeom>
              <a:avLst/>
              <a:gdLst>
                <a:gd name="textAreaLeft" fmla="*/ 624240 w 1739880"/>
                <a:gd name="textAreaRight" fmla="*/ 1115640 w 1739880"/>
                <a:gd name="textAreaTop" fmla="*/ 540000 h 1505160"/>
                <a:gd name="textAreaBottom" fmla="*/ 965160 h 15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_s1029"/>
            <p:cNvSpPr/>
            <p:nvPr/>
          </p:nvSpPr>
          <p:spPr>
            <a:xfrm flipV="1">
              <a:off x="2948040" y="4075920"/>
              <a:ext cx="3476520" cy="1506600"/>
            </a:xfrm>
            <a:custGeom>
              <a:avLst/>
              <a:gdLst>
                <a:gd name="textAreaLeft" fmla="*/ 764280 w 3476520"/>
                <a:gd name="textAreaRight" fmla="*/ 2712240 w 3476520"/>
                <a:gd name="textAreaTop" fmla="*/ 331200 h 1506600"/>
                <a:gd name="textAreaBottom" fmla="*/ 1175400 h 15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ef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 flipH="1" rot="18301200">
            <a:off x="2094840" y="314136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ising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1"/>
          <p:cNvSpPr/>
          <p:nvPr/>
        </p:nvSpPr>
        <p:spPr>
          <a:xfrm flipV="1" rot="14514000">
            <a:off x="4473000" y="383004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Falling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2057400" y="2666880"/>
            <a:ext cx="1752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571500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441120" y="5181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0384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914400" y="5105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908520" y="3954600"/>
            <a:ext cx="1501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476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Now that we have identified and defined the elements of a short story, let us use the elements to analyze a familiar fairyt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" descr="j0283631"/>
          <p:cNvPicPr/>
          <p:nvPr/>
        </p:nvPicPr>
        <p:blipFill>
          <a:blip r:embed="rId1"/>
          <a:stretch/>
        </p:blipFill>
        <p:spPr>
          <a:xfrm>
            <a:off x="5019840" y="1828800"/>
            <a:ext cx="2981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00240" y="914400"/>
            <a:ext cx="38862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mpus Sans ITC"/>
              </a:rPr>
              <a:t>Bibliograph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nneen, K. Elements of the Short Story. Retrieved Jun.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       19, 2003, from Yale-New Haven Teachers Institu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yale.edu/ynhti/curriculum/units/1983/3/83.03.09.x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23880" y="32767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ve Elements of a Story. Retrieved Jun. 19, 2003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teachervision.com/lesson-plans/lesson-2277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52480" y="42670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600200" y="4114800"/>
            <a:ext cx="701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Guevin, D. Short Story Elements. Retrieved Jun. 19, 2003,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empus Sans ITC"/>
              </a:rPr>
              <a:t>http://www.uvm.edu/~dguevin/Elements.html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Identify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fine elements of a short story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empus Sans ITC"/>
              </a:rPr>
              <a:t>Demonstrate mastery of short story element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empus Sans ITC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Short stories often contain structural and character elements that should be familiar to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se elements can be used as guides to help  you think about the actions, themes, and contexts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exposition stat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is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onfli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clim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falling a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- resolu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914400" y="457200"/>
            <a:ext cx="6553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ements of a Short 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main idea of a literary work, usually expressed as a generalizatio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05120" y="3657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43434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209680" y="457200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time and place in which a work of literature happe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people (or actors) in the sto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31240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 flipV="1" rot="10800000">
            <a:off x="1827000" y="4113720"/>
            <a:ext cx="63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story teller from whose point of view the story is being told, the nar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The description of  the personalities of  the characters in the story and the way in which an author reveals their personaliti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j0216724"/>
          <p:cNvPicPr/>
          <p:nvPr/>
        </p:nvPicPr>
        <p:blipFill>
          <a:blip r:embed="rId1"/>
          <a:stretch/>
        </p:blipFill>
        <p:spPr>
          <a:xfrm>
            <a:off x="6172200" y="1981080"/>
            <a:ext cx="2440080" cy="32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equence or order of events in a story. The plot includ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Exposition Statement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part of the plot that tells how the story begi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ising Action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- The action in the story leading up to the clima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onflict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ruggles or problems between opposing for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re PL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Climax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oint of crisis in the plot. It may be the reader’s point of highest inter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Falling actio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- The action in the story after the climax is revea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empus Sans ITC"/>
              </a:rPr>
              <a:t>Resolution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part of the plot that reveals the final outcom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700"/>
                            </p:stCondLst>
                            <p:childTnLst>
                              <p:par>
                                <p:cTn id="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7:49:08Z</dcterms:created>
  <dc:creator>HIGHLANDS ELEMENTARY SCHOOL</dc:creator>
  <dc:description/>
  <dc:language>en-US</dc:language>
  <cp:lastModifiedBy>nvasquez</cp:lastModifiedBy>
  <dcterms:modified xsi:type="dcterms:W3CDTF">2009-06-09T01:17:23Z</dcterms:modified>
  <cp:revision>24</cp:revision>
  <dc:subject/>
  <dc:title>Elements of a  Short Story</dc:title>
</cp:coreProperties>
</file>