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1A0F-7002-44CE-B4CF-D2AE9D40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DE2C-6D39-4E4D-A693-09BE4196DF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A47B-217B-4B5A-974A-0DD518C255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428-3B87-408D-B685-B2C1297BC6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1E29-5E5E-4E8F-B7AB-8B9EEEC153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2D7-28AB-4AA2-887D-DDA6EE257E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863E-E820-42E1-A824-47EC1FBE26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423-833C-4D18-B037-5C0B73C7A3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630A-582C-4779-A086-62F5DDAADE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D4C5-2CCD-4C7B-B538-5DEF6F5DBE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CE0-23EC-4290-9FDD-403C048ADA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420D-146B-4844-B857-19F54CF038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CAEA-C22A-4284-AEBD-BD43BA87CC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AA9-C71E-4AF2-88DC-C1D5B0CE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BBF-25E9-45EB-A336-3FBBD09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4F9-F873-4A31-935A-FAB2A4F3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529-16F8-4797-84EA-D8572B4B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D89-20D0-423E-A2E2-68D4FA8B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A481-2921-403D-9547-66BCA178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92A2-2E47-41F9-AF51-90E337D8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AE2F-15B6-49AD-8F11-57C61190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8B17-071C-473C-80F6-273FCA6F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0E22-C14C-4308-AEB9-82F1CA2D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EB55-80B1-466D-9A66-0EAF1FE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E62-9D5E-492A-BEDB-858F08FB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1641-2399-4263-8EFC-DD6D4CC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914F-D1D8-4985-915A-4D03E1B6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F642-63F5-4B9C-8CC6-2ACEF3F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661B-5F7C-41D3-97A4-85311AF0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53D-3C0C-45D4-AA97-5A7CF86E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AAF-B665-4D5C-89CA-C73B269A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2BE-5638-489D-95F1-A46BD1E5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FBC-EC8B-4B9A-AF8D-B15ACC5D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3C0-31BA-408E-BD0F-AFEBF1D2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5DF-1040-4374-82B2-E0865908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655-FC73-4AC2-B58A-81AA4DA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F86-63AF-4F91-A6E7-884272F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B42D-A2F3-48F5-9707-497D1E4D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F5A5-DF6E-4256-81B4-67D5A4D4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63244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Elements of a </a:t>
            </a:r>
            <a:br>
              <a:rPr sz="5500"/>
            </a:b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  Short Story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948040" y="2571120"/>
            <a:ext cx="3476520" cy="3011760"/>
            <a:chOff x="2948040" y="2571120"/>
            <a:chExt cx="3476520" cy="3011760"/>
          </a:xfrm>
        </p:grpSpPr>
        <p:sp>
          <p:nvSpPr>
            <p:cNvPr id="185" name="_s1028"/>
            <p:cNvSpPr/>
            <p:nvPr/>
          </p:nvSpPr>
          <p:spPr>
            <a:xfrm flipV="1">
              <a:off x="3816360" y="2570760"/>
              <a:ext cx="1739880" cy="1505160"/>
            </a:xfrm>
            <a:custGeom>
              <a:avLst/>
              <a:gdLst>
                <a:gd name="textAreaLeft" fmla="*/ 624240 w 1739880"/>
                <a:gd name="textAreaRight" fmla="*/ 1115640 w 1739880"/>
                <a:gd name="textAreaTop" fmla="*/ 540000 h 1505160"/>
                <a:gd name="textAreaBottom" fmla="*/ 965160 h 15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 flipV="1">
              <a:off x="2948040" y="4075920"/>
              <a:ext cx="3476520" cy="1506600"/>
            </a:xfrm>
            <a:custGeom>
              <a:avLst/>
              <a:gdLst>
                <a:gd name="textAreaLeft" fmla="*/ 764280 w 3476520"/>
                <a:gd name="textAreaRight" fmla="*/ 2712240 w 3476520"/>
                <a:gd name="textAreaTop" fmla="*/ 331200 h 1506600"/>
                <a:gd name="textAreaBottom" fmla="*/ 1175400 h 15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 flipH="1" rot="18301200">
            <a:off x="2094840" y="314136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1"/>
          <p:cNvSpPr/>
          <p:nvPr/>
        </p:nvSpPr>
        <p:spPr>
          <a:xfrm flipV="1" rot="14514000">
            <a:off x="4473000" y="383004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Falling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2057400" y="2666880"/>
            <a:ext cx="1752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571500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441120" y="5181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0384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914400" y="5105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908520" y="3954600"/>
            <a:ext cx="1501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476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Now that we have identified and defined the elements of a short story, let us use the elements to analyze a familiar fairyta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j0283631"/>
          <p:cNvPicPr/>
          <p:nvPr/>
        </p:nvPicPr>
        <p:blipFill>
          <a:blip r:embed="rId1"/>
          <a:stretch/>
        </p:blipFill>
        <p:spPr>
          <a:xfrm>
            <a:off x="5019840" y="182880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00240" y="914400"/>
            <a:ext cx="38862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mpus Sans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inneen, K. Elements of the Short Story. Retrieved Jun.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       19, 2003, from Yale-New Haven Teachers Institu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yale.edu/ynhti/curriculum/units/1983/3/83.03.09.x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23880" y="327672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ve Elements of a Story. Retrieved Jun. 19, 2003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teachervision.com/lesson-plans/lesson-2277.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52480" y="42670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600200" y="4114800"/>
            <a:ext cx="701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Guevin, D. Short Story Elements. Retrieved Jun. 19, 2003,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uvm.edu/~dguevin/Elements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Identify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fine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monstrate mastery of short story elements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hort stories often contain structural and character elements that should be familiar to yo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se elements can be used as guides to help  you think about the actions, themes, and contexts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exposition stat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is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onfli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lim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fall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es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914400" y="457200"/>
            <a:ext cx="6553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ements of a Short 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main idea of a literary work, usually expressed as a generalizatio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05120" y="3657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43434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09680" y="45720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time and place in which a work of literature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people (or actors) in the sto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31240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 flipV="1" rot="10800000">
            <a:off x="1827000" y="4113720"/>
            <a:ext cx="63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story teller from whose point of view the story is being told, the narrat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description of  the personalities of  the characters in the story and the way in which an author reveals their personaliti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j0216724"/>
          <p:cNvPicPr/>
          <p:nvPr/>
        </p:nvPicPr>
        <p:blipFill>
          <a:blip r:embed="rId1"/>
          <a:stretch/>
        </p:blipFill>
        <p:spPr>
          <a:xfrm>
            <a:off x="6172200" y="1981080"/>
            <a:ext cx="2440080" cy="32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equence or order of events in a story. The plot includ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Exposition State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part of the plot that tells how the story begi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ising Action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- The action in the story leading up to the clima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ruggles or problems between opposing for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re 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oint of crisis in the plot. It may be the reader’s point of highest inter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Falling actio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action in the story after the climax is reveal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art of the plot that reveals the final outcom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7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7:49:08Z</dcterms:created>
  <dc:creator>HIGHLANDS ELEMENTARY SCHOOL</dc:creator>
  <dc:description/>
  <dc:language>en-US</dc:language>
  <cp:lastModifiedBy>nvasquez</cp:lastModifiedBy>
  <dcterms:modified xsi:type="dcterms:W3CDTF">2009-06-09T01:17:23Z</dcterms:modified>
  <cp:revision>24</cp:revision>
  <dc:subject/>
  <dc:title>Elements of a  Short Story</dc:title>
</cp:coreProperties>
</file>